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144D-FB64-4D01-8675-2B4F96312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8BC6-B3C1-4F47-9935-6CFED9A7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7C2D-2FA4-4A1E-8CE8-0786A63CF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FA00-5A29-4563-9942-98688E84E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3749-B73A-4628-AC63-7443A6BF6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C951-FCC0-4805-B25A-B4FA8A3C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DAFE-C015-4827-BC0B-5302CBAF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4639-EE70-45F3-90D7-A813CE1B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DD12-8043-428F-9DC0-A4D67DFA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3C9D8-3812-450E-B70E-8F1F0162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D54A-398F-470D-999F-FBD9C61F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53B0-3B96-453D-98C7-E4142363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1C1F-2EEE-4291-B428-33AAF9CB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85B5-7734-441D-9A1A-78868885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D440-94F4-4B23-B6FF-B31601AF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1A19-0EF7-4797-B52F-DAE698FE0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262F-2FAC-4473-94B4-A7787B343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C56F-98BF-4E5D-8807-F142617F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893C-8798-46BF-BFBA-6FE988E0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E17D-62F3-400D-9175-A1D44019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0CF5-315D-44FC-A082-F39BF96F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DA21-A76B-488A-B2E6-E1B892BD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5A3C-5A94-4163-B783-12C62414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FB42-6D3C-448B-A5FA-B1B91AD5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DFED-2BC7-4CD5-8B53-6BA08FF151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9BB6-B4F8-4DCA-A30B-E211AFB3CA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21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ANSI C63 COMMITTEE</a:t>
            </a:r>
            <a:br>
              <a:rPr sz="48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SC/2 TERMINOLOGY DEFINITIONS</a:t>
            </a:r>
            <a:br>
              <a:rPr sz="4800"/>
            </a:br>
            <a:r>
              <a:rPr b="0" i="1" lang="en-US" sz="3200" spc="-1" strike="noStrike">
                <a:solidFill>
                  <a:srgbClr val="ff9900"/>
                </a:solidFill>
                <a:latin typeface="Arial"/>
              </a:rPr>
              <a:t>Status of ANSI C63.14 Updat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47242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enter: Dave Southwor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I C63, SC/2 Cha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AWARSYSCEN - San Die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8CA5-658B-40E5-83E4-A18DB478B87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September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anned Ac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 approval for terms from other sources that are copyrigh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e multiple definitions per term to one 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te adding new terms from DOD 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minate source references at end of terms except for copyrighted 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/2 to have audit trail for added te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9801-BC32-4849-AC61-0760A9263D1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pyright issu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 of terms from other than C63 or IE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low terms not added but from original C63.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{381 original terms + 70 DOD/ANSI terms = 451 terms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914400" y="2590920"/>
          <a:ext cx="4952880" cy="3352680"/>
        </p:xfrm>
        <a:graphic>
          <a:graphicData uri="http://schemas.openxmlformats.org/drawingml/2006/table">
            <a:tbl>
              <a:tblPr/>
              <a:tblGrid>
                <a:gridCol w="3389400"/>
                <a:gridCol w="1563480"/>
              </a:tblGrid>
              <a:tr h="478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5 terms from IEC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8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 terms from NATO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 terms from NTIA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8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term from SA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8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term from ESD org*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term from VIM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term from ITU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1936080" y="6405480"/>
            <a:ext cx="6436800" cy="368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above terms may be replaced by IEEE or DOD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6629400" y="3276720"/>
            <a:ext cx="1535040" cy="18097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901440" y="5979960"/>
            <a:ext cx="416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*2 SAE terms added from ANSI C63.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9A67-206B-4529-82A7-78DBA165960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C/2 Mee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eting Held at Northwest EMC, Irvine, 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7 Sep 2005, 1015 - 11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endees: Dave Southworth, Joe Snyder, David Zimmerman, Ed Hare, Chrys Chrysanthou, Dennis Camell, Don Heirman, Mike Windler, HR Hofmann,  and Dheena Moongi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iewed Scope, Approach, Sched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pdate of ANSI C63.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tential Secretary discus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A0D5-6030-4589-8A57-328752E7DE4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embership in SC/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ir: Dave Southwor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ce-Chair: Marcus Shell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retary: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vac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er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 Heirman, SC/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hn Lichtig, SC/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 Hare, SC/5 (alt: Bob Hofman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n Hoolihan, SC/6, SC/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phen Berger, SC/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lph Showers, C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e Sny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20757600">
            <a:off x="3210120" y="5257800"/>
            <a:ext cx="540360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Members approved at April 2005 C63 Main Me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8A51-3310-40A3-B0FB-29818F73306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C/2 Scope (Apr </a:t>
            </a:r>
            <a:r>
              <a:rPr b="0" i="1" lang="en-US" sz="4400" spc="-1" strike="noStrike">
                <a:solidFill>
                  <a:srgbClr val="ccecff"/>
                </a:solidFill>
                <a:latin typeface="Arial"/>
              </a:rPr>
              <a:t>2005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SI ASC C63 SC2 shall develop and update an American National Standard Dictionary for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Electromagnetic Compatibility (EMC) includ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Arial"/>
              </a:rPr>
              <a:t>Electromagnetic Environmental Effects (E3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document provides definitions of terms associated with EMC and E3. In addition to definitions, it includes </a:t>
            </a:r>
            <a:r>
              <a:rPr b="1" i="1" lang="en-US" sz="2400" spc="-1" strike="noStrike">
                <a:solidFill>
                  <a:srgbClr val="ff9933"/>
                </a:solidFill>
                <a:latin typeface="Arial"/>
              </a:rPr>
              <a:t>terminolog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abbreviations. </a:t>
            </a:r>
            <a:r>
              <a:rPr b="1" i="1" lang="en-US" sz="2400" spc="-1" strike="noStrike">
                <a:solidFill>
                  <a:srgbClr val="ff9933"/>
                </a:solidFill>
                <a:latin typeface="Arial"/>
              </a:rPr>
              <a:t>Some duplication of IEEE Std100 may occur if terms are used in C63 standar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a living document that requires update every </a:t>
            </a:r>
            <a:r>
              <a:rPr b="1" i="1" lang="en-US" sz="2400" spc="-1" strike="noStrike">
                <a:solidFill>
                  <a:srgbClr val="ff9933"/>
                </a:solidFill>
                <a:latin typeface="Arial"/>
              </a:rPr>
              <a:t>5 year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s the technology changes.  It shall consider the latest definitions from sources such as: </a:t>
            </a:r>
            <a:r>
              <a:rPr b="1" i="1" lang="en-US" sz="2400" spc="-1" strike="noStrike">
                <a:solidFill>
                  <a:srgbClr val="ff9933"/>
                </a:solidFill>
                <a:latin typeface="Arial"/>
              </a:rPr>
              <a:t>C63 standards, Department of Defense (DoD) and others as deemed appropriate (e.g. IEC 60050-161)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document number shall be ANSI C63.14-(Latest Date)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830680" y="6172200"/>
            <a:ext cx="509868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Scope approved at April 2005 C63 Main Me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C18B-CD8E-456E-92E1-61136890B6F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posed Update Approa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date ANSI C63.14 by the following Step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 Review C63 Standards published after last edition of C63.14 -1998 for new terms  (need draft standards from SC chairs) 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~Nearly comple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 Review Selected Military References for new terms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~Nearly comple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 Chairs of SCs to review draft documents for new terms not in C63.1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 Address Copyrighted terms for approv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  Propose Changes to C63 Main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 Consensus of C63 Main Group on Changes to Complete effort under P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3564-A945-4B2B-8EAD-DB9941ECF45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pproach to Upda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date of ANSI C63.14 must consider key Stakeholder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I C63 Standards &amp; US Indu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 Department of Defense (Do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63.14 Referenced in MIL-STD-461E, MIL-STD-464A, MIL-HDBK-237, MIL-HDBK-2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: IEC, NATO not currently considered as key drivers of ter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ion between IEEE and IEC underway to have a common E3 vocabul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248520" y="5619600"/>
            <a:ext cx="1868400" cy="123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5604-8579-4D2E-AB99-5E321D8053D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posed Schedu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457200" y="1523880"/>
          <a:ext cx="8229600" cy="3841560"/>
        </p:xfrm>
        <a:graphic>
          <a:graphicData uri="http://schemas.openxmlformats.org/drawingml/2006/table">
            <a:tbl>
              <a:tblPr/>
              <a:tblGrid>
                <a:gridCol w="4191120"/>
                <a:gridCol w="1066680"/>
                <a:gridCol w="990720"/>
                <a:gridCol w="990360"/>
                <a:gridCol w="9907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p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Review recent ANSI C63 standards for new/changed term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Review selected Military references for new/changed term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C63 SC Chairs review draft stds for new E3 term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Propose Changes at ANSI C63 Meeting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"/>
          <p:cNvSpPr/>
          <p:nvPr/>
        </p:nvSpPr>
        <p:spPr>
          <a:xfrm>
            <a:off x="4648320" y="2362320"/>
            <a:ext cx="914400" cy="30456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8a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867280" y="4724280"/>
            <a:ext cx="381240" cy="45720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8a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4038480"/>
            <a:ext cx="762120" cy="30492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8a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248520" y="4724280"/>
            <a:ext cx="380880" cy="45720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8a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800600" y="3200400"/>
            <a:ext cx="838080" cy="30492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8a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781680" y="4800600"/>
            <a:ext cx="914400" cy="30492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8a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7840" y="5715000"/>
            <a:ext cx="838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63 Main Body reaffirmed C63.14 in Sep 2005, revise by 201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ce C63.14 on a ~2 yr maintenance cycle after above catch up process is d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720A-DB9C-4A81-AF0A-6C741EA4B577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INS FOR UPDA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NS Draf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ssed: April 26, 2005 to C63 Secret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tablished Update Requirement for C63.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merican National Standard Dictionary for Technologies of Electromagnetic Compatibility (EMC), Electromagnetic Pulse (EMP), and Electrostatic Discharge (ES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recorded at ANS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572000" y="1371600"/>
          <a:ext cx="413064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13064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375E-5EF5-409F-80AB-9959801A111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IL-STDs Review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733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L-STD-461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L-STD-464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L-STD-449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L-STD-469B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L-STD-1310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L-STD-1377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L-STD-1541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L-STD-220B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L-STD-1542B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L-STD-160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DI 6055.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267080" y="1523880"/>
            <a:ext cx="4648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L-STD-1399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Section 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-HDBK-237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-HDBK-24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-HDBK-235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-HDBK-27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-HDBK-29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-HDBK-29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-HDBK-33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-HDBK-15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-HDBK-18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28680" y="6208560"/>
            <a:ext cx="5010120" cy="368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all planned new terms have been added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231B-4AA1-4A87-B3B2-6779ADBE841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21:36:14Z</dcterms:created>
  <dc:creator>D. Southworth</dc:creator>
  <dc:description/>
  <dc:language>en-US</dc:language>
  <cp:lastModifiedBy>SPAWAR-1</cp:lastModifiedBy>
  <dcterms:modified xsi:type="dcterms:W3CDTF">2005-09-29T22:50:55Z</dcterms:modified>
  <cp:revision>133</cp:revision>
  <dc:subject>ANSI C63.14 Update</dc:subject>
  <dc:title>ANSI C63 COMMITTEE SC/2 TERMINOLOGY Changes</dc:title>
</cp:coreProperties>
</file>