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2B04C-B08B-4217-9128-07902DA4D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8B8F3-504E-40E1-B67F-BC1B30F11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4C1FA-6E2D-4231-9E99-204A1DC66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323AD-870C-4C71-A373-E72EF58E3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4DBA0-7932-41A3-A9F9-4BED8C8D7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3E518-0D59-41FC-9DEE-F8467484B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83D51-FA5C-49EF-8607-769A20B00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104F1-5E17-4CCC-9605-D98EE9A71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BE01B-DD8E-4660-BFD1-FF851086F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60C74-23DE-4BE4-AE1D-A6EFF289A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B262D-6D33-489D-925E-62846B006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DE8F5-2B52-4269-8E34-7746AAE48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71979-D8BC-4AA5-814E-D325D91E2E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778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mmary of IEEE BPL standard project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2004, the IEEE Standards Association convened a BPL study group. (Carlo).  This group is considering becoming a Standards Coordinating Committe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re are current 3 BPL standards projects initiated by this group:</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ea typeface="Times New Roman"/>
              </a:rPr>
              <a:t>P1901 - IEEE Power Engineering Society and Communications Society – physical       layer,  protocols and interoperability (HomePlug vs DS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ea typeface="Times New Roman"/>
              </a:rPr>
              <a:t>P1675 - IEEE Power Engineering Society - Equipment and safet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Unicode MS"/>
                <a:ea typeface="Times New Roman"/>
              </a:rPr>
              <a:t>P1775 - IEEE Power Engineering Society and EMC Society - EMC, test methods and immunity. Not addressing compatibility with radio services or with other devices also plugged into ac main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IEEE Electromagnetic Compatibility Society Standards Development Committee has a BPL study project. It is chaired by Ed Hare, W1RFI, the ARRL Laboratory Manager.  He is building a wide range of participation, including FCC, NTIA, the BPL industry, the electric-utility industry, the cable industry, etc. At this point, the study project is just starting to define its own work, but it will be looking at emissions from broadband emitters that radiate over a large area and their compatibility with radio services and other devices connected to the ac main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d Hare participates in the IEEE BPL task group parent committee and the P1775 EMC Work Group. This is primarily to represent ARRL, but he does also provide  informal liaison and communication with C63 and SDCom BPL activiti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0" name="" descr=""/>
          <p:cNvPicPr/>
          <p:nvPr/>
        </p:nvPicPr>
        <p:blipFill>
          <a:blip r:embed="rId1"/>
          <a:stretch/>
        </p:blipFill>
        <p:spPr>
          <a:xfrm>
            <a:off x="0" y="-166680"/>
            <a:ext cx="9144000" cy="719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NEC Analysis</a:t>
            </a:r>
            <a:br>
              <a:rPr sz="4000"/>
            </a:br>
            <a:r>
              <a:rPr b="0" lang="en-US" sz="4000" spc="-1" strike="noStrike">
                <a:solidFill>
                  <a:srgbClr val="000000"/>
                </a:solidFill>
                <a:latin typeface="Times New Roman"/>
              </a:rPr>
              <a:t>(Spatial Distribution of E Field)</a:t>
            </a:r>
            <a:endParaRPr b="0" lang="en-US" sz="4000" spc="-1" strike="noStrike">
              <a:solidFill>
                <a:srgbClr val="000000"/>
              </a:solidFill>
              <a:latin typeface="Times New Roman"/>
            </a:endParaRPr>
          </a:p>
        </p:txBody>
      </p:sp>
      <p:pic>
        <p:nvPicPr>
          <p:cNvPr id="62" name="" descr=""/>
          <p:cNvPicPr/>
          <p:nvPr/>
        </p:nvPicPr>
        <p:blipFill>
          <a:blip r:embed="rId1"/>
          <a:stretch/>
        </p:blipFill>
        <p:spPr>
          <a:xfrm>
            <a:off x="973080" y="1981080"/>
            <a:ext cx="719784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asurements being done</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 (UK/E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IA continu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ic Power Research Institu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177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erstand EM environment (PINS-C)</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modeling to understand complex fields around simple and large structur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elop representative models to allow modeling to represent real-world devic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rrelate to measurements to the extent possibl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derstand and develop extrapolation (regression) facto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ll labs for existing measurement data for large and small EU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fect of this environment on nearby antenna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how complex fields surrounding large and small structures couple into nearby receive antenn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will have frequency and location facto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e combination of regression, distance and frequenc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method to set appropriate limi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on</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C63 position wrt limits and regression factor to FCC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ould be based on sound science and analys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ver in step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victi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e anything learned about limits into C63.12 (PINS to be developed if we get that fa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ical Issues</a:t>
            </a:r>
            <a:r>
              <a:rPr b="0" lang="en-US" sz="44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ments made in near fiel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H &lt;&gt; 377 oh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ing point of maximum emis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rapolation vs dist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ments at 1-meter height vs fields present at upward ang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rcRect l="21999" t="32672" r="20001" b="12669"/>
          <a:stretch/>
        </p:blipFill>
        <p:spPr>
          <a:xfrm>
            <a:off x="304920" y="228600"/>
            <a:ext cx="8534160" cy="603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elds Near Large Radiators – 14 MHz</a:t>
            </a:r>
            <a:br>
              <a:rPr sz="2800"/>
            </a:br>
            <a:r>
              <a:rPr b="1" lang="en-US" sz="2800" spc="-1" strike="noStrike">
                <a:solidFill>
                  <a:srgbClr val="000000"/>
                </a:solidFill>
                <a:latin typeface="Times New Roman"/>
              </a:rPr>
              <a:t>30 meter/3 meter ratio 16 dB</a:t>
            </a:r>
            <a:endParaRPr b="0" lang="en-US" sz="2800" spc="-1" strike="noStrike">
              <a:solidFill>
                <a:srgbClr val="000000"/>
              </a:solidFill>
              <a:latin typeface="Times New Roman"/>
            </a:endParaRPr>
          </a:p>
        </p:txBody>
      </p:sp>
      <p:sp>
        <p:nvSpPr>
          <p:cNvPr id="46" name=""/>
          <p:cNvSpPr/>
          <p:nvPr/>
        </p:nvSpPr>
        <p:spPr>
          <a:xfrm>
            <a:off x="2367000" y="17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 name="DIFF14-1" descr=""/>
          <p:cNvPicPr/>
          <p:nvPr/>
        </p:nvPicPr>
        <p:blipFill>
          <a:blip r:embed="rId1"/>
          <a:stretch/>
        </p:blipFill>
        <p:spPr>
          <a:xfrm>
            <a:off x="304920" y="1071720"/>
            <a:ext cx="8229600" cy="5303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3" name="" descr=""/>
          <p:cNvPicPr/>
          <p:nvPr/>
        </p:nvPicPr>
        <p:blipFill>
          <a:blip r:embed="rId1"/>
          <a:srcRect l="47505" t="42227" r="32195" b="32139"/>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23001" t="38002" r="21999" b="13999"/>
          <a:stretch/>
        </p:blipFill>
        <p:spPr>
          <a:xfrm>
            <a:off x="304920" y="304920"/>
            <a:ext cx="8458200" cy="553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rcRect l="34003" t="32666" r="34003" b="22000"/>
          <a:stretch/>
        </p:blipFill>
        <p:spPr>
          <a:xfrm>
            <a:off x="1066680" y="0"/>
            <a:ext cx="64548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32415" t="34001" r="34220" b="29169"/>
          <a:stretch/>
        </p:blipFill>
        <p:spPr>
          <a:xfrm>
            <a:off x="304920" y="0"/>
            <a:ext cx="8153280" cy="6748560"/>
          </a:xfrm>
          <a:prstGeom prst="rect">
            <a:avLst/>
          </a:prstGeom>
          <a:ln w="0">
            <a:noFill/>
          </a:ln>
        </p:spPr>
      </p:pic>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8T14:32:47Z</dcterms:created>
  <dc:creator>Ed Hare</dc:creator>
  <dc:description/>
  <dc:language>en-US</dc:language>
  <cp:lastModifiedBy>LAB_LAPTOP</cp:lastModifiedBy>
  <dcterms:modified xsi:type="dcterms:W3CDTF">2005-09-28T17:41:01Z</dcterms:modified>
  <cp:revision>204</cp:revision>
  <dc:subject/>
  <dc:title>Possible Impact of VDSL on Stations Operating in the Amateur Radio Service  Ed Hare, W1RFI ARRL Laboratory Manager 225 Main St Newington,CT 06111 w1rfi@arrl.org 860-594-0318</dc:title>
</cp:coreProperties>
</file>