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203-808E-4799-927E-267B8E97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3DB-AB47-4F71-8638-8C0017E8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800-5754-452C-BD79-3DEE0779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8CA-F1FE-4474-AC49-19CE9BF7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E16A-2EF3-4F90-8038-24A8A05B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6E2B-74E9-4A51-98C1-F7C7A1A1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46B0-02B7-43EC-8DED-D7FDE2F4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C2D5-4F32-4F74-8223-6EC985E4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45CD-1A22-4E09-9145-19F96B4B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6DD2-4E51-4203-8B47-4156D7E0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CBD5-B73B-41C4-8FC2-ABC48EB5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356-7409-4173-9FC1-1A63D816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B90E-C6E1-4209-BBFA-4AC5BCC5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1C4A-D204-40E8-9E2A-4FD4515A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BC04-A31C-4091-A435-F4E2646C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295C-184C-4CE4-9BF4-BF22FC1C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BD2A-EE5A-4AC8-91A4-12FF1A1E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C81-D430-4C86-9089-33479AEB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B45-DEE5-4EBD-A31F-FE1C03AE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CDD-72A1-47AF-8E0F-C8B8A846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3C0-15CD-468E-970C-F43D7A47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DEE-FEF3-44DE-8C7E-A9EA725D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9A9F-05EE-44F4-866A-8E322D25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A1C-49A6-4053-876C-21CD3D2F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B677-70D3-4239-820C-DC2FB8F94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1D7B-3EF8-4308-AE67-2D42D3CF0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andards.ieee.org/reading/ieee/std/gsdu/315-1975.pdf" TargetMode="External"/><Relationship Id="rId2" Type="http://schemas.openxmlformats.org/officeDocument/2006/relationships/hyperlink" Target="http://standards.ieee.org/reading/ieee/std/gsdu/Y32.9-1972.pdf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NSI C63 COMMITTEE</a:t>
            </a:r>
            <a:br>
              <a:rPr sz="48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C/2 TERMINOLOGY DEFINITIONS</a:t>
            </a:r>
            <a:br>
              <a:rPr sz="4800"/>
            </a:b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Status of ANSI C63.14 Updat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47242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er: Dave Southwo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I C63, SC/2 Cha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WARSYSCEN - San Di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2C1D-E704-4E46-AC34-B46EBBC5642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up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7B0-C635-4002-BCF3-DF117193094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LD SC-2 Scop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SI ASC C63 SC2 shall develop and update a National Standard Dictionary for Technologies of Electromagnetic Compatibility (EMC), Electromagnetic Pulse (EMP), and Electromagnetic Discharge (ES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document provides definitions of terms associated with EMC, EMP, and ESD. In addition to definitions, it includes symbols and abbreviations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is a living document that requires frequent updates as the technology changes.  It shall consider the latest definitions from sources such as: military, commercial, national and international (as expressed in the IEC 50 Chapter (161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finitions of EM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documentation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ocument number shall be ANSI C63.14-(Latest Date).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ocument number shall be ANSI C63.14-(Latest Date)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B89C-928B-4D85-A803-1457265BBB9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mbership in SC/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ir: Dave Southw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ce-Chair: Marcus Shell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y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a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 Heirman, SC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Lichtig, SC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 Hare, SC/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 Hoolihan, SC/6, SC/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hen Berger, SC/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lph Showers, C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e Sny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20757600">
            <a:off x="3210120" y="5257800"/>
            <a:ext cx="54036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Members approved at April 2005 C63 Main Me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1F1-3D45-4DF3-9713-F2234F4B708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/2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ing Held at IEEE H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7 April 2005, 1015 - N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ndees: Dave Southworth, Marcus Shellman, Joe Snyder, Ralph Showers, and Dheena Moongilan (observ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nts not in attendance: SC Chairs or altern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ed Scope, Approach,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ate of ANSI C63.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us Shellman, JSC, agreed to be vice-C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3CC-7538-46B5-954E-2A34807AF9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/2 Scope (Apr 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2005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SI ASC C63 SC2 shall develop and update an American National Standard Dictionary for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lectromagnetic Compatibility (EMC) includ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Electromagnetic Environmental Effects (E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document provides definitions of terms associated with EMC and E3. In addition to definitions, it includes </a:t>
            </a: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terminolog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abbreviations. </a:t>
            </a: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Some duplication of IEEE Std100 may occur if terms are used in C63 standa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living document that requires update every </a:t>
            </a: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5 yea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s the technology changes.  It shall consider the latest definitions from sources such as: </a:t>
            </a: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C63 standards, Department of Defense (DoD) and others as deemed appropriate (e.g. IEC 60050-161)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ocument number shall be ANSI C63.14-(Latest Date)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30680" y="6172200"/>
            <a:ext cx="50986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Scope approved at April 2005 C63 Main Me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FD3-DA34-41E0-87CB-4DC9500FB75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posed Update Approa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 ANSI C63.14 by the following Ste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 Review C63 Standards published after last edition of C63.14 -1998 for new terms  (need draft standards from SC chai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 Review Selected Military References for new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MIL-STD-461E, MIL-STD-464A, MIL-HDBK-237, -240 &amp; other DOD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 Propose Chan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, delete, change terms/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Consensus of C63 Main Group on Changes to Complete effort under P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B9BE-F04F-4C55-B555-E47AC44537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proach to Upd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date of ANSI C63.14 must consider all Stakeholder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I C63 Standards &amp; US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Department of Defense (D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631.4 Referenced in MIL-STD-461E, MIL-STD-464A, MIL-HDBK-237, MIL-HDBK-2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Organ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EC, NA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867280" y="5105520"/>
            <a:ext cx="2325960" cy="154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80CE-32F4-46AF-8206-8B9339077F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posed Schedu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600200"/>
          <a:ext cx="8229600" cy="4176720"/>
        </p:xfrm>
        <a:graphic>
          <a:graphicData uri="http://schemas.openxmlformats.org/drawingml/2006/table">
            <a:tbl>
              <a:tblPr/>
              <a:tblGrid>
                <a:gridCol w="4191120"/>
                <a:gridCol w="1066680"/>
                <a:gridCol w="990720"/>
                <a:gridCol w="990360"/>
                <a:gridCol w="990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t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t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t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t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Review recent ANSI C63 standards for new/changed ter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Review selected Military references for new/changed ter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eview selected International references for new/changed ter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Propose Changes at ANSI C63 Meeting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4648320" y="2743200"/>
            <a:ext cx="2819160" cy="304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29400" y="5105520"/>
            <a:ext cx="380880" cy="4572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4419720"/>
            <a:ext cx="1600200" cy="3045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534520" y="5105520"/>
            <a:ext cx="380880" cy="4572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3581280"/>
            <a:ext cx="2438280" cy="304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920-C378-4967-B0CB-9F96D0F89F4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INS FOR UPD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NS Draf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ed: April 26, 2005 to C63 Secret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blished Update Requirement for C63.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erican National Standard Dictionary for Technologies of Electromagnetic Compatibility (EMC), Electromagnetic Pulse (EMP), and Electrostatic Discharge (ES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0" y="1371600"/>
          <a:ext cx="413064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1306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5733-9C94-414C-8B61-A9CAA1578A5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ssues From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ach to content of C63.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 E3 terms found in C63 standards in C63.14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 DOD E3 terms (consider also include “NATO” terms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other terms not required by above “a” and “b” that are already in IEEE Std 100 will not be included in C63.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some terms from primarily IEC 60050-161 and ot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2.0 only to include IEEE Std 100 and no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include drawing symbols?  …in another IEEE doc alread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next slid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C63 subcommittee chairs/secretaries need to submit terms used to the SC/2 (not being done presently…consider yourself reminde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list of DOD references and E3/SS terms to be included in C63.14 (JS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IEC 60050-161 and other IEC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otion to approve Marcus Shellman for Vice-Chair of SC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AA9-5C62-49FE-9330-8EFA14D3DE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PHICS STANDAR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s in place all read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standards.ieee.org/catalog/olis/gsdu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85800" y="2666880"/>
          <a:ext cx="7696080" cy="1189080"/>
        </p:xfrm>
        <a:graphic>
          <a:graphicData uri="http://schemas.openxmlformats.org/drawingml/2006/table">
            <a:tbl>
              <a:tblPr/>
              <a:tblGrid>
                <a:gridCol w="1600200"/>
                <a:gridCol w="609588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315-1975 (R199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EEE Graphic Symbols for Electrical and Electronics Diagrams (Including Reference Designation Letters)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ound with 315A-1986 (R1993) Supplement to IEEE Std 315-19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62120" y="4114800"/>
          <a:ext cx="7315200" cy="914400"/>
        </p:xfrm>
        <a:graphic>
          <a:graphicData uri="http://schemas.openxmlformats.org/drawingml/2006/table">
            <a:tbl>
              <a:tblPr/>
              <a:tblGrid>
                <a:gridCol w="1600200"/>
                <a:gridCol w="5715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Y32.9-1972 (R198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erican National Standard Graphic Symbols for Electrical Wiring and Layout Diagrams Used in Architecture and Building Constr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0DF-7B24-42F4-BB32-55092AA420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21:36:14Z</dcterms:created>
  <dc:creator>D. Southworth</dc:creator>
  <dc:description/>
  <dc:language>en-US</dc:language>
  <cp:lastModifiedBy>Dave Southworth</cp:lastModifiedBy>
  <dcterms:modified xsi:type="dcterms:W3CDTF">2005-04-30T15:46:06Z</dcterms:modified>
  <cp:revision>114</cp:revision>
  <dc:subject>ANSI C63.14 Update</dc:subject>
  <dc:title>ANSI C63 COMMITTEE SC/2 TERMINOLOGY Changes</dc:title>
</cp:coreProperties>
</file>