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5C312-B90E-4522-9317-2B6D13982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84B0A-B45B-45B4-96D2-62F6F65CE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53D4D-F3E9-4E2B-9D3F-8D0527D09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E11C7-A1C2-4A3E-91B9-5119163F8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690E6-E684-4032-A599-FF40EE16F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EA253-20ED-4E9C-AB6C-C5A97EBB0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55560-2708-4513-A162-5053F497E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A2E1E-4A04-42B6-B148-192B8019A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0F58A-6622-4B11-8576-62F9FEAAC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B9E2D-C48B-4F2A-86D3-524BF3BBA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CA830-D465-4BD1-8EFE-912386976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F97A-1E5A-49C5-BBE6-A2C7B8947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698D2-7E04-49FF-83D1-588FF3583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D7906-0BC8-4558-9B0D-8386C0BAA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458A6-BE79-4B38-95A2-B6CEA9A02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63B53-5B76-4E48-A42F-3EAECBB5C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D2040-59EE-49C7-8C1E-6D12D7689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D3475-93B4-45B5-A684-A357CC10E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12341-137E-463A-93C3-6A6F97194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DE719-5FC2-42FA-8BDE-43C8A5E1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F206-17A5-4D11-92BF-8231D46F1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6596-4448-4422-AE8D-1E6DF1E99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5B5B5-0D04-41F9-A2FC-EB64B60A7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4A26-55EA-40A5-9501-B66F80B83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r>
              <a:rPr b="0" lang="en-US" sz="1400" spc="-1" strike="noStrike">
                <a:solidFill>
                  <a:srgbClr val="5e574e"/>
                </a:solidFill>
                <a:latin typeface="Arial"/>
              </a:rPr>
              <a:t>Don HEIRMAN Consultants</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37CD-B2D9-4BB4-8400-EA0BFC917D38}" type="slidenum">
              <a:rPr b="0" lang="en-US" sz="1400" spc="-1" strike="noStrike">
                <a:solidFill>
                  <a:srgbClr val="5e574e"/>
                </a:solidFill>
                <a:latin typeface="Arial"/>
              </a:rPr>
              <a:t>&lt;number&gt;</a:t>
            </a:fld>
            <a:r>
              <a:rPr b="0" lang="en-US" sz="1400" spc="-1" strike="noStrike">
                <a:solidFill>
                  <a:srgbClr val="5e574e"/>
                </a:solidFill>
                <a:latin typeface="Arial"/>
              </a:rPr>
              <a:t> Copyright 2005</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r>
              <a:rPr b="0" lang="en-US" sz="1400" spc="-1" strike="noStrike">
                <a:solidFill>
                  <a:srgbClr val="5e574e"/>
                </a:solidFill>
                <a:latin typeface="Arial"/>
              </a:rPr>
              <a:t>Don HEIRMAN Consultants</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587F-3C70-4EDC-96EE-733D7BD4AD0A}" type="slidenum">
              <a:rPr b="0" lang="en-US" sz="1400" spc="-1" strike="noStrike">
                <a:solidFill>
                  <a:srgbClr val="5e574e"/>
                </a:solidFill>
                <a:latin typeface="Arial"/>
              </a:rPr>
              <a:t>&lt;number&gt;</a:t>
            </a:fld>
            <a:r>
              <a:rPr b="0" lang="en-US" sz="1400" spc="-1" strike="noStrike">
                <a:solidFill>
                  <a:srgbClr val="5e574e"/>
                </a:solidFill>
                <a:latin typeface="Arial"/>
              </a:rPr>
              <a:t> Copyright 2005</a:t>
            </a:r>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ope of C63 SC7</a:t>
            </a:r>
            <a:endParaRPr b="0" lang="en-US" sz="3600" spc="-1" strike="noStrike">
              <a:solidFill>
                <a:srgbClr val="000000"/>
              </a:solidFill>
              <a:latin typeface="Arial Black"/>
            </a:endParaRPr>
          </a:p>
        </p:txBody>
      </p:sp>
      <p:sp>
        <p:nvSpPr>
          <p:cNvPr id="84"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bcommittee 7:  Unlicensed Personal Communications Services (UPC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cope</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vide the technical expertise and resources necessary for writing, updating, or changing existing and proposed UPCS and related standards to provide new or amended measurement techniques and associated instrumentation, measurement methods, and operational limits or protocols covering UPCS activit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EMC Standards Seminar</a:t>
            </a:r>
          </a:p>
        </p:txBody>
      </p:sp>
      <p:sp>
        <p:nvSpPr>
          <p:cNvPr id="5" name="PlaceHolder 4"/>
          <p:cNvSpPr>
            <a:spLocks noGrp="1"/>
          </p:cNvSpPr>
          <p:nvPr>
            <p:ph type="sldNum" idx="3"/>
          </p:nvPr>
        </p:nvSpPr>
        <p:spPr/>
        <p:txBody>
          <a:bodyPr/>
          <a:p>
            <a:fld id="{F230E671-9B4F-4BA2-BBD1-11FA58EFBA1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9T19:48:52Z</dcterms:created>
  <dc:creator>Donald N. Heirman</dc:creator>
  <dc:description/>
  <dc:language>en-US</dc:language>
  <cp:lastModifiedBy>Stephen Berger</cp:lastModifiedBy>
  <dcterms:modified xsi:type="dcterms:W3CDTF">2005-04-26T13:03:22Z</dcterms:modified>
  <cp:revision>72</cp:revision>
  <dc:subject/>
  <dc:title>ANSI ASC C63 Subcommittee 1 (Techniques and Developments) Activity</dc:title>
</cp:coreProperties>
</file>