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4DE8-9A82-4CBE-B539-708DFC9A2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7518-B899-4F14-B3DD-59679143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26D2-A728-4A00-821D-B25114BB2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2328-9FCD-4F05-A621-D03C17F5E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1624-EE69-4077-A8DA-C35B06A2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DE08-BE7D-4611-97D2-D7539662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4226-2144-4C8B-B15E-D27E1A4D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F601-B87F-4A65-8D5A-A55270EF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49BF-F29A-4138-BC18-0D7BF17C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B1E3-F4AC-4A87-A983-19F2F2F3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7ED7-2F6D-4F9F-88A1-F4A9807D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6D74-41A8-4893-B313-9B5B97CC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0563-7C28-4C0E-A375-8C2C5337FB4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C63 SECRETARY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DMINISTRATIVE ISSU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NS for NEW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EDITOR PREP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it APPROVED by C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EST it be SENT to AN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LOTS – RETURN by DUE D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ON ITEMS – IMPLEMENT by D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UTES to be SHOR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5:00:25Z</dcterms:created>
  <dc:creator> PRITCHARD</dc:creator>
  <dc:description/>
  <dc:language>en-US</dc:language>
  <cp:lastModifiedBy> PRITCHARD</cp:lastModifiedBy>
  <dcterms:modified xsi:type="dcterms:W3CDTF">2006-03-15T13:25:35Z</dcterms:modified>
  <cp:revision>3</cp:revision>
  <dc:subject/>
  <dc:title>C63 SECRETARY ADMINISTRATIVE ISSUES</dc:title>
</cp:coreProperties>
</file>