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1A5-BA41-442B-BC29-266D2707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CBE-F18B-4234-927B-707B7CB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112-3A87-48A6-9D10-C87417B0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B64-4003-4773-9C97-2300E6CF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C5AA-4C98-4281-B370-546F29D1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48B2-8702-48F7-B89F-30F896F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6379-BDE1-4912-B7B5-0D9BE4E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9398-849C-4C58-94C6-6E91467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051-86E6-4E40-84BF-98DA0B15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C5A0-16DA-49EC-845A-64F54039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B436-9E20-415A-89AE-8620828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740-43E6-43D7-8B26-200D9FB3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1150-3A8F-40EB-9624-A5754CA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BC4-81A5-4DA0-99B5-2D9DB4E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674-D225-49E7-ACAF-E4CCCC2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EF5E-4B22-462E-B75E-B6ED9088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BCB3-709D-4E6B-8DA7-419B43D8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196-E842-4FBF-8EB3-415249D0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8B4-8CC7-4BD9-91E9-E0212FFA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24E-E2AA-49C7-85E2-27FD861D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4DF-2F67-4316-AAA1-8EB8D36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F27-EFA5-44E4-A238-890E094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0CF-8A50-43BC-BA60-9FA2378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331-7CD5-4435-90E4-55A3CCB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Don HEIRMAN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518-DAFD-4FAA-B0C6-D9C73E5543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Copyrigh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Don HEIRMAN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3E89-D68F-40BE-A793-81D7A864B7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Copyright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 63 Membersh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s of 3/15/06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SC C63 Tutor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1B3-4F4D-43E6-825A-4FA127F32E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SC C63 Membersh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iance for Telecommunications Industry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n Council of Independent Laboratories (AC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n Radio Relay League (ARR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rtis-Strau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ll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TS-Lindg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od and Drug Administration (F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deral Communications Commiss. (FC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 C63 Tutor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E7A-6946-48BC-A477-0115BB174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embership Continu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wlett Pack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tion Technology Industry Council (ITIC) (formerly Computer &amp; Business Equipment Manufacturers Associ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itute of Electrical and Electronics Engineers Standards 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EEE EMC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cent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 (N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 C63 Tutor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7FD-3A45-4B4F-A598-0FBC385DA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embership Continu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ny-Eric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lecomm. Industries Association (T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UV-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writers Labora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. S. Department of Defense—Joint Spectrum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. S. Department of the Navy--SPA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ree members emeri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 C63 Tutor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5EB-0C53-410C-B6CD-B7A941DD3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20:35:34Z</dcterms:created>
  <dc:creator> PRITCHARD</dc:creator>
  <dc:description/>
  <dc:language>en-US</dc:language>
  <cp:lastModifiedBy> PRITCHARD</cp:lastModifiedBy>
  <dcterms:modified xsi:type="dcterms:W3CDTF">2006-05-05T20:38:23Z</dcterms:modified>
  <cp:revision>2</cp:revision>
  <dc:subject/>
  <dc:title>ASC  63 Membership</dc:title>
</cp:coreProperties>
</file>