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03E60-D809-488B-BD1D-504961F4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FCD1B-0F2E-416C-A72F-F7BBEA9A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E9AA3-2F36-4C60-BFA4-8305461E0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3D2B0-4D84-46D4-A2C2-7C97E6C9B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0EA73-3A9F-4558-A9D0-5EF965179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0BD07-29D3-4F2E-9B48-BAAEC751B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FE647-2477-484E-BDEB-785966561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D17FB-316E-45FC-B503-C1ABBA0B2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DC2F5-A30F-4778-9DF8-E553C6095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60D80-9F3B-4A97-BBFA-6ECD14392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1934B-8671-4D22-9229-59AFAEA6F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D35A-3EFF-4428-B205-FC72158B2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D0CBF-7858-4634-A51D-84280180D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F3D87-08AF-4865-B987-87C357277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DA3FD-BFA4-40C0-9DD9-04CD867E3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22117-DDEE-409F-B312-2113219CD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48C82-E7AE-4B80-99B1-C292CDBCD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6E557-FFF8-46FC-A3A8-DC171DB85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E645-6897-4AD7-A808-E6425C907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0828F-7D97-4DEF-B169-9D028D6D5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CE8DF-D8C5-432A-9091-83AB5625E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BCC8F-BE18-4A81-B84E-F6BCACD92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9927E-1650-492F-AA5D-C9DA1F9FB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755E-92A2-46D2-97FB-FCE7CC90B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r>
              <a:rPr b="0" lang="en-US" sz="1400" spc="-1" strike="noStrike">
                <a:solidFill>
                  <a:srgbClr val="5e574e"/>
                </a:solidFill>
                <a:latin typeface="Arial"/>
              </a:rPr>
              <a:t>Don HEIRMAN Consultants</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FF2B-ADEC-4800-81AD-E63CF945A636}" type="slidenum">
              <a:rPr b="0" lang="en-US" sz="1400" spc="-1" strike="noStrike">
                <a:solidFill>
                  <a:srgbClr val="5e574e"/>
                </a:solidFill>
                <a:latin typeface="Arial"/>
              </a:rPr>
              <a:t>&lt;number&gt;</a:t>
            </a:fld>
            <a:r>
              <a:rPr b="0" lang="en-US" sz="1400" spc="-1" strike="noStrike">
                <a:solidFill>
                  <a:srgbClr val="5e574e"/>
                </a:solidFill>
                <a:latin typeface="Arial"/>
              </a:rPr>
              <a:t> Copyright 2005</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r>
              <a:rPr b="0" lang="en-US" sz="1400" spc="-1" strike="noStrike">
                <a:solidFill>
                  <a:srgbClr val="5e574e"/>
                </a:solidFill>
                <a:latin typeface="Arial"/>
              </a:rPr>
              <a:t>Don HEIRMAN Consultants</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BF65-F3D0-48C5-982B-AC7CFFEF7E53}" type="slidenum">
              <a:rPr b="0" lang="en-US" sz="1400" spc="-1" strike="noStrike">
                <a:solidFill>
                  <a:srgbClr val="5e574e"/>
                </a:solidFill>
                <a:latin typeface="Arial"/>
              </a:rPr>
              <a:t>&lt;number&gt;</a:t>
            </a:fld>
            <a:r>
              <a:rPr b="0" lang="en-US" sz="1400" spc="-1" strike="noStrike">
                <a:solidFill>
                  <a:srgbClr val="5e574e"/>
                </a:solidFill>
                <a:latin typeface="Arial"/>
              </a:rPr>
              <a:t> Copyright 2005</a:t>
            </a:r>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Old Scope of C63 SC7</a:t>
            </a:r>
            <a:endParaRPr b="0" lang="en-US" sz="3600" spc="-1" strike="noStrike">
              <a:solidFill>
                <a:srgbClr val="000000"/>
              </a:solidFill>
              <a:latin typeface="Arial Black"/>
            </a:endParaRPr>
          </a:p>
        </p:txBody>
      </p:sp>
      <p:sp>
        <p:nvSpPr>
          <p:cNvPr id="8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bcommittee 7:  Unlicensed Personal Communications Services (UPC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ope</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vide for writing, updating, or changing existing and proposed UPCS and related standards to provide new or amended measurement techniques and associated instrumentation, measurement methods, and operational limits or protocols covering UPCS activ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EMC Standards Seminar</a:t>
            </a:r>
          </a:p>
        </p:txBody>
      </p:sp>
      <p:sp>
        <p:nvSpPr>
          <p:cNvPr id="5" name="PlaceHolder 4"/>
          <p:cNvSpPr>
            <a:spLocks noGrp="1"/>
          </p:cNvSpPr>
          <p:nvPr>
            <p:ph type="sldNum" idx="3"/>
          </p:nvPr>
        </p:nvSpPr>
        <p:spPr/>
        <p:txBody>
          <a:bodyPr/>
          <a:p>
            <a:fld id="{B79C28E8-E436-45DB-AB85-C07897035C2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posed Scope of C63 SC7</a:t>
            </a:r>
            <a:endParaRPr b="0" lang="en-US" sz="3600" spc="-1" strike="noStrike">
              <a:solidFill>
                <a:srgbClr val="000000"/>
              </a:solidFill>
              <a:latin typeface="Arial Black"/>
            </a:endParaRPr>
          </a:p>
        </p:txBody>
      </p:sp>
      <p:sp>
        <p:nvSpPr>
          <p:cNvPr id="86"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bcommittee 7:  Spectrum Etiqu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ope</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vide the technical expertise and resources necessary for writing, updating, or changing existing and proposed spectrum etiquettes and related standards to provide new or amended measurement techniques and associated instrumentation, measurement methods, and operational limits or protocols supporting dynamic spectrum acces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EMC Standards Seminar</a:t>
            </a:r>
          </a:p>
        </p:txBody>
      </p:sp>
      <p:sp>
        <p:nvSpPr>
          <p:cNvPr id="5" name="PlaceHolder 4"/>
          <p:cNvSpPr>
            <a:spLocks noGrp="1"/>
          </p:cNvSpPr>
          <p:nvPr>
            <p:ph type="sldNum" idx="3"/>
          </p:nvPr>
        </p:nvSpPr>
        <p:spPr/>
        <p:txBody>
          <a:bodyPr/>
          <a:p>
            <a:fld id="{FD4BCE6A-E33E-402D-B679-C584D857543D}"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9T19:48:52Z</dcterms:created>
  <dc:creator>Donald N. Heirman</dc:creator>
  <dc:description/>
  <dc:language>en-US</dc:language>
  <cp:lastModifiedBy>Jerry Ramie</cp:lastModifiedBy>
  <dcterms:modified xsi:type="dcterms:W3CDTF">2010-04-22T17:36:55Z</dcterms:modified>
  <cp:revision>75</cp:revision>
  <dc:subject/>
  <dc:title>ANSI ASC C63 Subcommittee 1 (Techniques and Developments) Activity</dc:title>
</cp:coreProperties>
</file>