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C297-7C4F-400A-A95C-CC15FE24A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A2AE-3AD1-4F60-A14B-88FBBDB8EF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3E0D9-E1E6-4697-BCA0-693043E09C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7CEB9-301D-4B99-99EA-8C5E495102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74B0-CC6A-45D2-976C-7429F79E13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C69C7-6802-42FF-A601-B98428264D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DBE8D-C6D4-43E1-B38D-1C7CD965F83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E4A4B-DB1E-4603-9686-71C9315B43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6633-AC52-46F2-9599-6A2C58C860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05BCB-8233-4087-BB2B-EB65D29153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7B3E-0652-454E-8D3B-3F74DA78F4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FE99-889E-4516-8A98-702B8031508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AE6F-0FF8-4871-BE71-C5D8C66FB2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95B1-13A7-4CA6-B479-E753DEE0A71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CFEF-2C78-4B3E-AA69-88C3FB3E4C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9593-2E17-4A45-9A83-413E2835077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3F2C-BC4C-4AA0-92A8-8DFB3A25560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CA8E-C538-4E1C-A7BE-9A8EADEFA7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F482-21D4-4BAE-AA5C-FE06DB6C3F7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33E3-BBDA-4789-8E5C-C84923A05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6D87-2AEA-461A-8163-62741676A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26FE-B5A6-427D-9B2C-3585CF060E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82C0-FA6D-4737-9A84-0DD6AB8EB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0F68-7306-4E7C-9175-1CBCF8333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798B-9D16-4B6E-B42E-EA42A5FA54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CC7D-4303-405B-8796-540C7DCF23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B25C-399D-4CE8-983E-96BA092675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A348-6040-49F3-BFD0-5EAE8E08E5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73A9-EDB0-4267-9ABB-773FDE4BC6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0590-C29A-4094-89C9-AA548A08E1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9269-D9C5-453A-AC19-49F335B8A28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FA0-7285-461C-B2D2-0DE78376BE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86F-C2C9-4ABA-84D9-71759A7FBA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B50-0116-43A3-BE08-170A3C41FD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75C-1DA9-4B11-AA14-BEB929A043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339-0D68-4081-A1CE-17846B9B51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29E-4CD5-4600-8864-86BA47650E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C36-B7A2-4A3A-AC28-19F29F0AD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23F0-07A8-4E19-B230-04D3A5CCBD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AD1-A41D-40E0-A354-6FAC8A5AC4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5DF-FBB2-4E9B-A45B-4D1609C154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CFC-5501-419A-A7FC-95D8AAD3AD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7EC-FB89-48B1-8133-10E7C3EB3B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C29-0171-4BC7-82B2-184F9ADBAB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F7462-8950-4877-8EE2-AC60B09CE9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D5E38-FE2B-4E6F-8002-F88ADDDCE6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25D9-A3AD-4509-BD7F-499B0253B4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E5EF3-0332-40C8-A32E-2E3A2A187C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EBEAD-280E-4CE6-8336-8C0EFD4A3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D541-0C18-4C6D-B79E-5DD3889F17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10CB-637B-495E-9783-2CEBFE0A1F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C69FA-F24C-46F9-90E3-107B2020EE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3E50E-4DEE-4D3D-908C-EB05C0D13F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F6D63-D516-41FB-B019-88E6671586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61EFD-D463-48AC-B98F-AA7F6F2186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C4CC-84E5-4786-B3FF-30DAD3702E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B03E1-0506-493E-A479-CD718A2B45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DF1A2-C158-4FE0-9FBD-F3D55A9409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42DE-7E69-454A-A2D1-F92CE0A8DF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0A245-B6A3-46BD-8FE4-EE999367A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file://USRPNT1/logon/Upcoming%20events.ppt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file://USRPNT1/logon/Upcoming%20events.ppt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3360" y="5105520"/>
            <a:ext cx="902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enter’s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8959680" y="262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63360" y="3930480"/>
            <a:ext cx="896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efing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Group 6" descr=""/>
          <p:cNvPicPr/>
          <p:nvPr/>
        </p:nvPicPr>
        <p:blipFill>
          <a:blip r:embed="rId2"/>
          <a:stretch/>
        </p:blipFill>
        <p:spPr>
          <a:xfrm>
            <a:off x="-6480" y="4718160"/>
            <a:ext cx="9156960" cy="6192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06840" y="861840"/>
            <a:ext cx="4511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on cover page, upper left-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rner: DISA Logo,  “Defens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ystems Agency” &amp; “A Combat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genc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4440240" y="861840"/>
            <a:ext cx="45194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Up Arrow 14"/>
          <p:cNvSpPr/>
          <p:nvPr/>
        </p:nvSpPr>
        <p:spPr>
          <a:xfrm rot="16200000">
            <a:off x="3723480" y="786240"/>
            <a:ext cx="6303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59160" y="2786040"/>
            <a:ext cx="495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riefing Title: always right justified: 44, Bold, Shadow, Arial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1001880" y="3894120"/>
            <a:ext cx="4268520" cy="744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Up Arrow 17"/>
          <p:cNvSpPr/>
          <p:nvPr/>
        </p:nvSpPr>
        <p:spPr>
          <a:xfrm rot="8976600">
            <a:off x="7103880" y="3623760"/>
            <a:ext cx="6285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609480" y="3930480"/>
            <a:ext cx="466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ame, Title &amp; Date: always right justified, 28, Bold, Arial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2789280" y="2786040"/>
            <a:ext cx="4416480" cy="70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Up Arrow 20"/>
          <p:cNvSpPr/>
          <p:nvPr/>
        </p:nvSpPr>
        <p:spPr>
          <a:xfrm rot="8040600">
            <a:off x="5328000" y="4793040"/>
            <a:ext cx="628560" cy="4269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Box 21"/>
          <p:cNvSpPr/>
          <p:nvPr/>
        </p:nvSpPr>
        <p:spPr>
          <a:xfrm>
            <a:off x="6420960" y="150840"/>
            <a:ext cx="214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mple Tit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3505320" y="6437160"/>
            <a:ext cx="2560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1040" indent="-311040"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3"/>
          <p:cNvSpPr/>
          <p:nvPr/>
        </p:nvSpPr>
        <p:spPr>
          <a:xfrm>
            <a:off x="249120" y="5638680"/>
            <a:ext cx="378936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Box 24"/>
          <p:cNvSpPr/>
          <p:nvPr/>
        </p:nvSpPr>
        <p:spPr>
          <a:xfrm>
            <a:off x="243000" y="5638680"/>
            <a:ext cx="4189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 UNCLASSIFIED briefings, a classification should not be listed anywhere in the brief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2" descr=""/>
          <p:cNvPicPr/>
          <p:nvPr/>
        </p:nvPicPr>
        <p:blipFill>
          <a:blip r:embed="rId3"/>
          <a:stretch/>
        </p:blipFill>
        <p:spPr>
          <a:xfrm>
            <a:off x="63360" y="38160"/>
            <a:ext cx="3575160" cy="1295280"/>
          </a:xfrm>
          <a:prstGeom prst="rect">
            <a:avLst/>
          </a:prstGeom>
          <a:ln w="0">
            <a:noFill/>
          </a:ln>
        </p:spPr>
      </p:pic>
      <p:sp>
        <p:nvSpPr>
          <p:cNvPr id="18" name="TextBox 26"/>
          <p:cNvSpPr/>
          <p:nvPr/>
        </p:nvSpPr>
        <p:spPr>
          <a:xfrm>
            <a:off x="747000" y="1454040"/>
            <a:ext cx="216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Box 27"/>
          <p:cNvSpPr/>
          <p:nvPr/>
        </p:nvSpPr>
        <p:spPr>
          <a:xfrm>
            <a:off x="367200" y="1176480"/>
            <a:ext cx="2867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fense Information Systems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sldNum" idx="1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E9F3-6B5A-4B05-96FB-7E67E2E07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603360" y="838080"/>
            <a:ext cx="7937280" cy="7488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8160" y="0"/>
            <a:ext cx="9067680" cy="6781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03360" y="6029280"/>
            <a:ext cx="7937280" cy="7452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570560" y="3330720"/>
            <a:ext cx="2880" cy="9360"/>
          </a:xfrm>
          <a:prstGeom prst="rect">
            <a:avLst/>
          </a:prstGeom>
          <a:solidFill>
            <a:srgbClr val="004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>
            <a:hlinkClick r:id="rId2"/>
          </p:cNvPr>
          <p:cNvSpPr/>
          <p:nvPr/>
        </p:nvSpPr>
        <p:spPr>
          <a:xfrm>
            <a:off x="3467160" y="5330880"/>
            <a:ext cx="2209680" cy="1523880"/>
          </a:xfrm>
          <a:custGeom>
            <a:avLst/>
            <a:gdLst>
              <a:gd name="textAreaLeft" fmla="*/ 98640 w 2209680"/>
              <a:gd name="textAreaRight" fmla="*/ 2111040 w 22096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1318" h="21600">
                <a:moveTo>
                  <a:pt x="0" y="0"/>
                </a:moveTo>
                <a:lnTo>
                  <a:pt x="31318" y="0"/>
                </a:lnTo>
                <a:lnTo>
                  <a:pt x="31318" y="21600"/>
                </a:lnTo>
                <a:lnTo>
                  <a:pt x="0" y="21600"/>
                </a:lnTo>
                <a:close/>
              </a:path>
              <a:path fill="lightenLess" w="31318" h="21600">
                <a:moveTo>
                  <a:pt x="0" y="0"/>
                </a:moveTo>
                <a:lnTo>
                  <a:pt x="31318" y="0"/>
                </a:lnTo>
                <a:lnTo>
                  <a:pt x="29918" y="1400"/>
                </a:lnTo>
                <a:lnTo>
                  <a:pt x="1400" y="1400"/>
                </a:lnTo>
                <a:close/>
              </a:path>
              <a:path fill="darken" w="31318" h="21600">
                <a:moveTo>
                  <a:pt x="31318" y="0"/>
                </a:moveTo>
                <a:lnTo>
                  <a:pt x="31318" y="21600"/>
                </a:lnTo>
                <a:lnTo>
                  <a:pt x="29918" y="20200"/>
                </a:lnTo>
                <a:lnTo>
                  <a:pt x="29918" y="1400"/>
                </a:lnTo>
                <a:close/>
              </a:path>
              <a:path fill="darkenLess" w="31318" h="21600">
                <a:moveTo>
                  <a:pt x="31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8" y="20200"/>
                </a:lnTo>
                <a:close/>
              </a:path>
              <a:path fill="lighten" w="31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8" h="21600">
                <a:moveTo>
                  <a:pt x="8653" y="3794"/>
                </a:moveTo>
                <a:lnTo>
                  <a:pt x="22666" y="10800"/>
                </a:lnTo>
                <a:lnTo>
                  <a:pt x="86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03360" y="1144440"/>
            <a:ext cx="7937280" cy="22716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603360" y="5573880"/>
            <a:ext cx="7937280" cy="22680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4" descr="\\Cdxhqs1\DG\ADMINISTRATIVE\Templates\disa_seal.bmp"/>
          <p:cNvPicPr/>
          <p:nvPr/>
        </p:nvPicPr>
        <p:blipFill>
          <a:blip r:embed="rId3"/>
          <a:stretch/>
        </p:blipFill>
        <p:spPr>
          <a:xfrm>
            <a:off x="3125880" y="1984320"/>
            <a:ext cx="2892240" cy="289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63360" y="5105520"/>
            <a:ext cx="902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enter’s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8959680" y="262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3360" y="3930480"/>
            <a:ext cx="896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efing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oup 6" descr=""/>
          <p:cNvPicPr/>
          <p:nvPr/>
        </p:nvPicPr>
        <p:blipFill>
          <a:blip r:embed="rId2"/>
          <a:stretch/>
        </p:blipFill>
        <p:spPr>
          <a:xfrm>
            <a:off x="-6480" y="4718160"/>
            <a:ext cx="9156960" cy="61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2"/>
          <p:cNvSpPr/>
          <p:nvPr/>
        </p:nvSpPr>
        <p:spPr>
          <a:xfrm>
            <a:off x="4506840" y="861840"/>
            <a:ext cx="4511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ways on cover page, upper left-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rner: DISA Logo,  “Defens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ystems Agency” &amp; “A Combat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genc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4440240" y="861840"/>
            <a:ext cx="45194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Up Arrow 14"/>
          <p:cNvSpPr/>
          <p:nvPr/>
        </p:nvSpPr>
        <p:spPr>
          <a:xfrm rot="16200000">
            <a:off x="3723480" y="786240"/>
            <a:ext cx="6303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2459160" y="2786040"/>
            <a:ext cx="495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riefing Title: always right justified: 44, Bold, Shadow, Arial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001880" y="3894120"/>
            <a:ext cx="4268520" cy="744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Up Arrow 17"/>
          <p:cNvSpPr/>
          <p:nvPr/>
        </p:nvSpPr>
        <p:spPr>
          <a:xfrm rot="8976600">
            <a:off x="7103880" y="3623760"/>
            <a:ext cx="6285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609480" y="3930480"/>
            <a:ext cx="4660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ame, Title &amp; Date: always right justified, 28, Bold, Arial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2789280" y="2786040"/>
            <a:ext cx="4416480" cy="70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Up Arrow 20"/>
          <p:cNvSpPr/>
          <p:nvPr/>
        </p:nvSpPr>
        <p:spPr>
          <a:xfrm rot="8040600">
            <a:off x="5328000" y="4793040"/>
            <a:ext cx="628560" cy="4269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6420960" y="150840"/>
            <a:ext cx="214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mple Tit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3505320" y="6437160"/>
            <a:ext cx="2560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1040" indent="-311040"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249120" y="5638680"/>
            <a:ext cx="378936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4"/>
          <p:cNvSpPr/>
          <p:nvPr/>
        </p:nvSpPr>
        <p:spPr>
          <a:xfrm>
            <a:off x="243000" y="5638680"/>
            <a:ext cx="4189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 UNCLASSIFIED briefings, a classification should not be listed anywhere in the brief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63360" y="38160"/>
            <a:ext cx="3575160" cy="12952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6"/>
          <p:cNvSpPr/>
          <p:nvPr/>
        </p:nvSpPr>
        <p:spPr>
          <a:xfrm>
            <a:off x="747000" y="1454040"/>
            <a:ext cx="216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367200" y="1176480"/>
            <a:ext cx="2867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fense Information Systems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6885720" y="7128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mple 2n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28"/>
          <p:cNvSpPr/>
          <p:nvPr/>
        </p:nvSpPr>
        <p:spPr>
          <a:xfrm>
            <a:off x="884736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27"/>
          <p:cNvSpPr/>
          <p:nvPr/>
        </p:nvSpPr>
        <p:spPr>
          <a:xfrm>
            <a:off x="407880" y="21337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subsequent slides clean with distinc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’t include too many words/pictures o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y slides are potentially in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text is 24, Bold,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ow, Arial for mai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, Bold, Arial for sub-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, Bold, Arial for further sub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pages in the lower right corner using 16, Bold, Arial starting with the second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2438280" y="533520"/>
            <a:ext cx="426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5840280" y="1471680"/>
            <a:ext cx="3006720" cy="662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Always centered, 36, Bold, Shadow, Arial fo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Up Arrow 12"/>
          <p:cNvSpPr/>
          <p:nvPr/>
        </p:nvSpPr>
        <p:spPr>
          <a:xfrm rot="18978600">
            <a:off x="5143320" y="1257120"/>
            <a:ext cx="6300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4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554" name="TextBox 9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13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631" name="TextBox 13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4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885720" y="7128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mple 2n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884736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27"/>
          <p:cNvSpPr/>
          <p:nvPr/>
        </p:nvSpPr>
        <p:spPr>
          <a:xfrm>
            <a:off x="407880" y="21337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subsequent slides clean with distinc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n’t include too many words/pictures o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y slides are potentially in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text is 24, Bold,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ow, Arial for mai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, Bold, Arial for sub-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, Bold, Arial for further sub-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pages in the lower right corner using 16, Bold, Arial starting with the second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38280" y="533520"/>
            <a:ext cx="426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840280" y="1471680"/>
            <a:ext cx="3006720" cy="662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Always centered, 36, Bold, Shadow, Arial fo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Up Arrow 12"/>
          <p:cNvSpPr/>
          <p:nvPr/>
        </p:nvSpPr>
        <p:spPr>
          <a:xfrm rot="18978600">
            <a:off x="5143320" y="1257120"/>
            <a:ext cx="6300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Num" idx="2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ECF-E0CF-4CDD-BD4B-5414640EA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514600" y="434880"/>
            <a:ext cx="5396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Slid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752480"/>
            <a:ext cx="8736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sentence case for bullets (lowercase for all words other than proper nouns), title case (uppercase for most words) for slide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using a slide banner, use this slide as your template – slide banner width can be adj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, copy the banner, text, and page number to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40" y="5943600"/>
            <a:ext cx="9144000" cy="914400"/>
          </a:xfrm>
          <a:prstGeom prst="rect">
            <a:avLst/>
          </a:prstGeom>
          <a:solidFill>
            <a:srgbClr val="8c6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not using this banner, remov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4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4" descr="http://www.journaldujura.ch/herbstaktion/bilder/garagen/ford_logo.jpg"/>
          <p:cNvPicPr/>
          <p:nvPr/>
        </p:nvPicPr>
        <p:blipFill>
          <a:blip r:embed="rId2"/>
          <a:stretch/>
        </p:blipFill>
        <p:spPr>
          <a:xfrm>
            <a:off x="3808440" y="5479920"/>
            <a:ext cx="1523880" cy="927360"/>
          </a:xfrm>
          <a:prstGeom prst="rect">
            <a:avLst/>
          </a:prstGeom>
          <a:ln w="0">
            <a:noFill/>
          </a:ln>
        </p:spPr>
      </p:pic>
      <p:sp>
        <p:nvSpPr>
          <p:cNvPr id="150" name="Oval 1031"/>
          <p:cNvSpPr/>
          <p:nvPr/>
        </p:nvSpPr>
        <p:spPr>
          <a:xfrm>
            <a:off x="3733920" y="5159520"/>
            <a:ext cx="1676160" cy="156816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32"/>
          <p:cNvSpPr/>
          <p:nvPr/>
        </p:nvSpPr>
        <p:spPr>
          <a:xfrm>
            <a:off x="4038480" y="5365800"/>
            <a:ext cx="1143000" cy="104148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7785000" y="157320"/>
            <a:ext cx="1074960" cy="1008000"/>
            <a:chOff x="7785000" y="157320"/>
            <a:chExt cx="1074960" cy="1008000"/>
          </a:xfrm>
        </p:grpSpPr>
        <p:sp>
          <p:nvSpPr>
            <p:cNvPr id="153" name="Oval 9"/>
            <p:cNvSpPr/>
            <p:nvPr/>
          </p:nvSpPr>
          <p:spPr>
            <a:xfrm>
              <a:off x="7797600" y="169920"/>
              <a:ext cx="1049400" cy="9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10" descr="jsscfinal"/>
            <p:cNvPicPr/>
            <p:nvPr/>
          </p:nvPicPr>
          <p:blipFill>
            <a:blip r:embed="rId3"/>
            <a:stretch/>
          </p:blipFill>
          <p:spPr>
            <a:xfrm>
              <a:off x="7785000" y="157320"/>
              <a:ext cx="1074960" cy="10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Rectangle 1027"/>
          <p:cNvSpPr/>
          <p:nvPr/>
        </p:nvSpPr>
        <p:spPr>
          <a:xfrm>
            <a:off x="76320" y="1523880"/>
            <a:ext cx="87627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blems or logos representing individual DISA organizations may be used in the upper-right co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the DISA logo should be on the Title Slide – No other emblems or logo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place emblems or logos in the lower left or any other location on 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5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209680" y="434880"/>
            <a:ext cx="5396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m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03360" y="838080"/>
            <a:ext cx="7937280" cy="7488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160" y="0"/>
            <a:ext cx="9067680" cy="6781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3360" y="6029280"/>
            <a:ext cx="7937280" cy="7452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70560" y="3330720"/>
            <a:ext cx="2880" cy="9360"/>
          </a:xfrm>
          <a:prstGeom prst="rect">
            <a:avLst/>
          </a:prstGeom>
          <a:solidFill>
            <a:srgbClr val="004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>
            <a:hlinkClick r:id="rId2"/>
          </p:cNvPr>
          <p:cNvSpPr/>
          <p:nvPr/>
        </p:nvSpPr>
        <p:spPr>
          <a:xfrm>
            <a:off x="3467160" y="5330880"/>
            <a:ext cx="2209680" cy="1523880"/>
          </a:xfrm>
          <a:custGeom>
            <a:avLst/>
            <a:gdLst>
              <a:gd name="textAreaLeft" fmla="*/ 98640 w 2209680"/>
              <a:gd name="textAreaRight" fmla="*/ 2111040 w 22096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1318" h="21600">
                <a:moveTo>
                  <a:pt x="0" y="0"/>
                </a:moveTo>
                <a:lnTo>
                  <a:pt x="31318" y="0"/>
                </a:lnTo>
                <a:lnTo>
                  <a:pt x="31318" y="21600"/>
                </a:lnTo>
                <a:lnTo>
                  <a:pt x="0" y="21600"/>
                </a:lnTo>
                <a:close/>
              </a:path>
              <a:path fill="lightenLess" w="31318" h="21600">
                <a:moveTo>
                  <a:pt x="0" y="0"/>
                </a:moveTo>
                <a:lnTo>
                  <a:pt x="31318" y="0"/>
                </a:lnTo>
                <a:lnTo>
                  <a:pt x="29918" y="1400"/>
                </a:lnTo>
                <a:lnTo>
                  <a:pt x="1400" y="1400"/>
                </a:lnTo>
                <a:close/>
              </a:path>
              <a:path fill="darken" w="31318" h="21600">
                <a:moveTo>
                  <a:pt x="31318" y="0"/>
                </a:moveTo>
                <a:lnTo>
                  <a:pt x="31318" y="21600"/>
                </a:lnTo>
                <a:lnTo>
                  <a:pt x="29918" y="20200"/>
                </a:lnTo>
                <a:lnTo>
                  <a:pt x="29918" y="1400"/>
                </a:lnTo>
                <a:close/>
              </a:path>
              <a:path fill="darkenLess" w="31318" h="21600">
                <a:moveTo>
                  <a:pt x="31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8" y="20200"/>
                </a:lnTo>
                <a:close/>
              </a:path>
              <a:path fill="lighten" w="31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8" h="21600">
                <a:moveTo>
                  <a:pt x="8653" y="3794"/>
                </a:moveTo>
                <a:lnTo>
                  <a:pt x="22666" y="10800"/>
                </a:lnTo>
                <a:lnTo>
                  <a:pt x="86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603360" y="1144440"/>
            <a:ext cx="7937280" cy="22716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603360" y="5573880"/>
            <a:ext cx="7937280" cy="226800"/>
          </a:xfrm>
          <a:prstGeom prst="rect">
            <a:avLst/>
          </a:prstGeom>
          <a:solidFill>
            <a:srgbClr val="8c6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\\Cdxhqs1\DG\ADMINISTRATIVE\Templates\disa_seal.bmp"/>
          <p:cNvPicPr/>
          <p:nvPr/>
        </p:nvPicPr>
        <p:blipFill>
          <a:blip r:embed="rId3"/>
          <a:stretch/>
        </p:blipFill>
        <p:spPr>
          <a:xfrm>
            <a:off x="3125880" y="1984320"/>
            <a:ext cx="2892240" cy="28926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5"/>
          <p:cNvSpPr/>
          <p:nvPr/>
        </p:nvSpPr>
        <p:spPr>
          <a:xfrm>
            <a:off x="6248520" y="1762200"/>
            <a:ext cx="2198520" cy="1015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6255360" y="1762200"/>
            <a:ext cx="2099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ll DISA brief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clude wit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ISA s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6934320" y="6381720"/>
            <a:ext cx="19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 pag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6781680" y="6381720"/>
            <a:ext cx="2133720" cy="419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8959680" y="2620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Group 9" descr=""/>
          <p:cNvPicPr/>
          <p:nvPr/>
        </p:nvPicPr>
        <p:blipFill>
          <a:blip r:embed="rId2"/>
          <a:stretch/>
        </p:blipFill>
        <p:spPr>
          <a:xfrm>
            <a:off x="-6480" y="4718160"/>
            <a:ext cx="9156960" cy="6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63360" y="38160"/>
            <a:ext cx="357516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4"/>
          <p:cNvSpPr/>
          <p:nvPr/>
        </p:nvSpPr>
        <p:spPr>
          <a:xfrm>
            <a:off x="747000" y="1454040"/>
            <a:ext cx="216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367200" y="1176480"/>
            <a:ext cx="2867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fense Information Systems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9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3"/>
          </p:nvPr>
        </p:nvSpPr>
        <p:spPr>
          <a:xfrm>
            <a:off x="68576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6CF-F0B7-4D5A-9635-180E250916F7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3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Num" idx="4"/>
          </p:nvPr>
        </p:nvSpPr>
        <p:spPr>
          <a:xfrm>
            <a:off x="68576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EDF-3485-4726-BEA1-43EA0C328017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3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4"/>
          <p:cNvSpPr/>
          <p:nvPr/>
        </p:nvSpPr>
        <p:spPr>
          <a:xfrm>
            <a:off x="152280" y="847800"/>
            <a:ext cx="243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9b7"/>
                </a:solidFill>
                <a:latin typeface="Verdana"/>
              </a:rPr>
              <a:t>A Combat Support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Num" idx="5"/>
          </p:nvPr>
        </p:nvSpPr>
        <p:spPr>
          <a:xfrm>
            <a:off x="685764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291-4A4D-4C0C-BDAA-64C93B04CB8B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5"/>
          <p:cNvSpPr/>
          <p:nvPr/>
        </p:nvSpPr>
        <p:spPr>
          <a:xfrm>
            <a:off x="0" y="3276720"/>
            <a:ext cx="8966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C C63® Committee on EM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2:E3 Terminology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63360" y="5105520"/>
            <a:ext cx="902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us Shellman, J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ir, S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2 April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2666880" y="228600"/>
            <a:ext cx="5700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437-7997-4D89-A904-1B1640A3E9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600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2 Membership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SC2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WG 1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3.14-2014 Draft 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efinitio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63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lette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28"/>
          <p:cNvSpPr/>
          <p:nvPr/>
        </p:nvSpPr>
        <p:spPr>
          <a:xfrm>
            <a:off x="8848080" y="6521400"/>
            <a:ext cx="296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2666880" y="304920"/>
            <a:ext cx="5700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2 Membershi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704880" y="1219320"/>
            <a:ext cx="8439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7DE2-508C-48AF-AEAC-6439412A7B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0" descr=""/>
          <p:cNvPicPr/>
          <p:nvPr/>
        </p:nvPicPr>
        <p:blipFill>
          <a:blip r:embed="rId1"/>
          <a:stretch/>
        </p:blipFill>
        <p:spPr>
          <a:xfrm>
            <a:off x="0" y="5181480"/>
            <a:ext cx="9144000" cy="16891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71600" y="1143000"/>
            <a:ext cx="6858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us Shellm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e Southwor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, S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ichael Duncanson*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retary, S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 Dil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Coordinator, S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 Heirm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63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n Hoolih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63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nis Camel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ul Ander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H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tor Kuczynsk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hen Ber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b DeLi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r, SC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ph Show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in Bren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ce-Chair, S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b Hofman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*Pending Receipt of Membership Appli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Ba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SC2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3 Terminology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mmittee 2 is responsible for developing, updating,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definitions and terminology related to electromagn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 (EMC) including electromagnetic environment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3).  The subcommittee will also recommend and/or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for ratification and harmonization with the U.S. militar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tandardization bodies as needed.  The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maintain ANSI ASC C63.14, “American National Standa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of Electromagnetic Compatibility (EMC) 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agnetic Environmental Effects (E3)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1027"/>
          <p:cNvSpPr/>
          <p:nvPr/>
        </p:nvSpPr>
        <p:spPr>
          <a:xfrm>
            <a:off x="76320" y="1523880"/>
            <a:ext cx="87627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2362320" y="228600"/>
            <a:ext cx="624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orking Group 1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BAA-219A-4092-9C4C-F8D6D7441A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1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414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609480" y="1600200"/>
            <a:ext cx="83962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3.14-2014 Draft P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fini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roadband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Broadban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Broadband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Broadband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  Recommended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c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2590920" y="380880"/>
            <a:ext cx="5395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63 Newsletter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7D6-5DE4-4E87-A1A2-D063FD7581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177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-609480" y="1600200"/>
            <a:ext cx="91440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let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63.14-2014: SC2 has commenced project initiation to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5-year revision cycle for the next update.  Th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gin working immediately with emphasis on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ternational standards and identifying e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2590920" y="380880"/>
            <a:ext cx="5395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E137-2C18-492C-B5AF-57E8B1922E3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4140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-304920" y="1828800"/>
            <a:ext cx="87631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2590920" y="380880"/>
            <a:ext cx="5395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FAC5-3810-4702-966A-FF7EA07E98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414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0" y="1066680"/>
            <a:ext cx="914400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oadband Syst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or more broadband devices in which information is encoded, modulated onto a carrier, and pass band filtered or otherwise constrained to occupy only a limited frequency spectrum on the transmission medium.  (Note: Generally used for large amounts of voice, data, and video signal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 Standa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criteria, methods, processes, and/or practices developed by an accredited body of qualified individuals to effectuate product conformity, performance, interoperability, and quality contro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. Standa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ed criteria, methods, processes, and/or practices developed by an accredited body of qualified individuals to effectuate product conformity, performance, interoperability, and quality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. Standa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ocument that specifies criteria, methods, processes, and/or practices usually developed by qualified individuals and used to effectuate product conformity, performance, interoperability, and quality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9:54:04Z</dcterms:created>
  <dc:creator>Elmer.Gordon</dc:creator>
  <dc:description/>
  <dc:language>en-US</dc:language>
  <cp:lastModifiedBy>Marcus.Shellman</cp:lastModifiedBy>
  <dcterms:modified xsi:type="dcterms:W3CDTF">2010-04-22T15:20:55Z</dcterms:modified>
  <cp:revision>109</cp:revision>
  <dc:subject/>
  <dc:title>Slide 1</dc:title>
</cp:coreProperties>
</file>