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D5E-F654-46EB-B16B-98D3C936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993-01E7-4B12-B472-2A8010D0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DC-D4DA-44D5-A92A-E1414A3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16D-F7F8-499E-BFC9-C8E1531E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B5C-942C-42C0-BF5D-D10F8B22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BBA-D6AC-48DD-903D-9E51997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CE4-0DB5-4453-8830-A09A79A5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3DF-CCBB-4DDC-951E-E12E63E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177-2954-473D-8187-37044D0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FB9-C751-4CF8-BF2A-1F51397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178-040B-41A1-A20E-B426B0B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CC6-8778-44C6-A510-53BC197C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10CF-7068-4943-BAF1-21F9C918F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63.9 – Audio office-equipment immunit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ve Berger –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e members at this time. Standard is current and s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63.16 – ESD test i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ed by Don Heir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ling out material to write a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ESD test criteria for the number of discharges to be used; information on the use of air vs conducted dis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S to do work needed once study and evaluation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63.16 – ES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 He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rry Ra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ry 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e Schae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ve K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63.24  – On-site immunity test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ed by Steve Ber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 begin in earnest now that C63.18 is nearly compl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ft PINS prepared for Main Committee consid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63.24 – On-site immunity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ve Berger –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 Keeb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rmit Phip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 Silber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e Zimm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ry 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 Hool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S: revised standard C63.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merican National Standard for In-Situ RF Immunity Evaluation of Products, Instrumentation, and Control Systems in High Reliability Installations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 draft P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bcommittee Chair moves that the followoing members be approved for membership on Subcommittee 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 Hare – Ch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ve Whitesell – Vice Ch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ff Silberberg - Secret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ul Anders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ud Attay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hen Berg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in Bre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 Heirm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b Hofman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n Hooli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ctor Kuczynsk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rner Schaef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e Schaef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e Zimmerm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b Mertel – (Emeritus, previous SC5 chairman)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tle and Scope of ANSI ASC C63® Subcommittee 5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munity Testing and Developments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-5 is responsible for writing, updating, and changing existing and proposed C6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approved standards for new or existing immunity-testing techniques, associated instrumentation and test-methods  development as requested by the parent committee ASC C6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C-5 is responsible for providing technical expertise and resources necessary for writing, updating, or changing existing and proposed C63™-approved standards for new or existing immunity testing techniques and associated instrumentation, test methods, test levels and limits development as requested by the parent committee ASC C63™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NS: new standa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merican National Standard for EMC Qualification Tests for Instrumentation &amp; Control Equipment in Nuclear Power Station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w draft P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0:05:43Z</dcterms:created>
  <dc:creator>Ed Hare</dc:creator>
  <dc:description/>
  <dc:language>en-US</dc:language>
  <cp:lastModifiedBy>Ed Hare</cp:lastModifiedBy>
  <dcterms:modified xsi:type="dcterms:W3CDTF">2010-04-22T17:24:39Z</dcterms:modified>
  <cp:revision>15</cp:revision>
  <dc:subject/>
  <dc:title>Ed Hare – Chairman Steve Whitesell – Vice Chairman Jeff Silberberg - Secretary Poul Andersen Masud Attayi Stephen Berger  Colin Brench Don Heirman  Bob Hofmann Dan Hoolihan  Victor Kuczynski Werner Schaefer  Herb Mertel – (Emeritus, previous SC5 chairman)</dc:title>
</cp:coreProperties>
</file>