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539B74-1066-4EB6-B6C3-E9E78BC72E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0BA89-E653-478A-9404-370550BFB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65583A-1255-45CC-94DF-E69FD724B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55725E-FA53-4A77-8359-8ADF10F628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67A9FC-527F-467D-8322-8EE5D7907B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38C17-6D70-425C-912D-E1D496DD5E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1AF7E-7CAB-4FEF-A44A-77381C3280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F23BD2-5C0B-4C2A-9AC0-48E3F8889A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D5F39C-0473-4280-95FF-A09D42B43C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7DFDC2-500A-437E-A84C-9978CF5640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15DE4-BDDA-44EF-B2E4-E12F7B71B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7C8F0-D594-498F-8BA5-2F7045DC1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4FD04-A5DB-4F17-BF8F-BB34F4963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000C23-1C39-4665-A54D-73E25762B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973B91-A1E8-442F-BCB5-A0D3071E44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CA3ED7-2363-403D-BBE2-116F629A8F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071C43-5207-410C-852C-A370B3CC6D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FFD1B-84B8-4B69-9CEE-E142C065B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5059A-A2A0-4AB4-9F16-7627207EA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656F1-44DA-4A4A-AC24-3F1610222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63570-3DEA-40A5-A4B6-24E3DD24D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3181A-1D2B-4998-83F9-F6088B82A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01B70-C714-4DF3-8FEC-24ACCFE9C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BDFF7-0900-4BB5-A162-2E171E6A27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C4121-5A8F-4C51-820E-ADE31AD7821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64AFE-6C2A-46D0-8173-8C8D456F0384}"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C63® SC6 update</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1904760"/>
            <a:ext cx="6400800" cy="3733560"/>
          </a:xfrm>
          <a:prstGeom prst="rect">
            <a:avLst/>
          </a:prstGeom>
          <a:noFill/>
          <a:ln w="0">
            <a:noFill/>
          </a:ln>
        </p:spPr>
        <p:txBody>
          <a:bodyPr lIns="90000" rIns="90000" tIns="46800" bIns="46800" anchor="t">
            <a:noAutofit/>
          </a:bodyPr>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eting summary </a:t>
            </a:r>
            <a:endParaRPr b="0" lang="en-US" sz="2800" spc="-1" strike="noStrike">
              <a:solidFill>
                <a:srgbClr val="00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ril. 20 2010</a:t>
            </a:r>
            <a:endParaRPr b="0" lang="en-US" sz="2800" spc="-1" strike="noStrike">
              <a:solidFill>
                <a:srgbClr val="00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IEEE</a:t>
            </a:r>
            <a:endParaRPr b="0" lang="en-US" sz="2800" spc="-1" strike="noStrike">
              <a:solidFill>
                <a:srgbClr val="00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iscataway NJ</a:t>
            </a:r>
            <a:endParaRPr b="0" lang="en-US" sz="2800" spc="-1" strike="noStrike">
              <a:solidFill>
                <a:srgbClr val="00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4 members and 5 guests were pres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63 ® SC6 update</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ctor Kuczynski chair &amp; web coordinat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am Gouker vice-chai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ve Zimmerman Secret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C63 ® SC6 update</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Due to the  copyright issue the C63.11</a:t>
            </a:r>
            <a:endParaRPr b="0" lang="en-US" sz="2800" spc="-1" strike="noStrike">
              <a:solidFill>
                <a:srgbClr val="00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G1 ceased to exist</a:t>
            </a:r>
            <a:endParaRPr b="0" lang="en-US" sz="2800" spc="-1" strike="noStrike">
              <a:solidFill>
                <a:srgbClr val="00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WG 2 headed by Dean Ghizzone including Dan Hoolihan,  Bob DeLisi,  Brad Moore, Victor Kuczynski looks to explore idea to drop dates from scope of accreditations list to minimize amount of entries. </a:t>
            </a:r>
            <a:endParaRPr b="0" lang="en-US" sz="2800" spc="-1" strike="noStrike">
              <a:solidFill>
                <a:srgbClr val="00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activities for this period</a:t>
            </a:r>
            <a:endParaRPr b="0" lang="en-US" sz="2800" spc="-1" strike="noStrike">
              <a:solidFill>
                <a:srgbClr val="00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63 ® SC6 update</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WG3 related to proficiency testing created and provided initial draf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63 ® SC6 update</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G 4 is working on guide that  would offer guidance to testing laboratories requiring calibration of EMC equipment.( Bob Delisi, Dean Ghizonne, Dan Hoolihan, Werner Schaeffer, Victor K, Zhong Cheng, Colin Brench, Denise Camell).</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PINS has been developed for approva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63 ® SC6 update</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Website updat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scope has been modified for approva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19:03:43Z</dcterms:created>
  <dc:creator>vk</dc:creator>
  <dc:description/>
  <dc:language>en-US</dc:language>
  <cp:lastModifiedBy>vk</cp:lastModifiedBy>
  <dcterms:modified xsi:type="dcterms:W3CDTF">2010-04-21T19:15:24Z</dcterms:modified>
  <cp:revision>20</cp:revision>
  <dc:subject/>
  <dc:title>              C63 SC6</dc:title>
</cp:coreProperties>
</file>