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286EE-C6AF-4302-B169-5B25400F0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82193-74F9-4CF9-9756-BC407AA0A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4029A-958B-41CE-9C48-5FE4AD6C3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C8E30-9A7C-4379-8F78-6A492CA72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FB421D-6CF7-4A5D-8E97-3FE6336C5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3C9B3-492E-43DF-AA92-A27214FD3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B613E-B39F-46E3-A01F-3C53683E4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B3690-1FEF-4C4D-9DC0-64BB24AEF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FF5F1-A052-4F10-A516-CDB408305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B8CC3-D248-468A-A96D-A0C8D8D14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63899-465E-45C2-99BB-F8334D162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36108-423F-45D8-B7DC-6953A4AFA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26E5C-CD13-42FD-B16D-B2D2F49C9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B297D-64AB-4AB4-A266-B9D645447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D2105-E870-452F-A273-1E83C6A4B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C5AB3-E4EB-47DB-8458-8789ED2758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45B9AC-12A1-4319-A81C-FC231061A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BC933-0775-4001-8058-29631B59C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2DEE6-BD0E-4F2B-8126-1D3893DD9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16C88-A71F-408A-8068-5B9240C56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81C4F-F0BA-4999-BD09-0BEC557D6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04AC6-274A-471D-94E4-2FC33B146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1CB4A-E659-4460-840D-6D162AAA3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09110-7D32-4C73-B1FA-445A97A1B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E8B5C-C233-46CC-ADC2-40C255BA39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9E1DA-56EA-4716-BAF0-F44D0915A61E}"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8088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63 ® SC6 update April 21/09</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1904760"/>
            <a:ext cx="6400800" cy="3733560"/>
          </a:xfrm>
          <a:prstGeom prst="rect">
            <a:avLst/>
          </a:prstGeom>
          <a:noFill/>
          <a:ln w="0">
            <a:noFill/>
          </a:ln>
        </p:spPr>
        <p:txBody>
          <a:bodyPr anchor="t">
            <a:no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atus Summary </a:t>
            </a: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eting @ April 21, 2009 </a:t>
            </a: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the meeting  12 members and</a:t>
            </a: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 guest  were pres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63 ® SC6 update April 21/09</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585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85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WG1 Immunity Checklist C63.11 </a:t>
            </a:r>
            <a:endParaRPr b="0" lang="en-US" sz="3200" spc="-1" strike="noStrike">
              <a:solidFill>
                <a:srgbClr val="000000"/>
              </a:solidFill>
              <a:latin typeface="Tahoma"/>
            </a:endParaRPr>
          </a:p>
          <a:p>
            <a:pPr marL="585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s to follow up on the cost of copyright issue.</a:t>
            </a:r>
            <a:endParaRPr b="0" lang="en-US" sz="3200" spc="-1" strike="noStrike">
              <a:solidFill>
                <a:srgbClr val="000000"/>
              </a:solidFill>
              <a:latin typeface="Tahoma"/>
            </a:endParaRPr>
          </a:p>
          <a:p>
            <a:pPr marL="585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WG2 Looks to simplify handling scope of accreditations by laboratories</a:t>
            </a:r>
            <a:endParaRPr b="0" lang="en-US" sz="3200" spc="-1" strike="noStrike">
              <a:solidFill>
                <a:srgbClr val="000000"/>
              </a:solidFill>
              <a:latin typeface="Tahoma"/>
            </a:endParaRPr>
          </a:p>
          <a:p>
            <a:pPr marL="585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activity expected for a whi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63 ® SC6 update April 21/09</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WG3 Proficiency tes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Looks for more participants to test York Sourc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und robin testing, two participants so fa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640" y="228600"/>
            <a:ext cx="7792920" cy="776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 </a:t>
            </a:r>
            <a:r>
              <a:rPr b="0" lang="en-US" sz="4000" spc="-1" strike="noStrike">
                <a:solidFill>
                  <a:srgbClr val="333399"/>
                </a:solidFill>
                <a:latin typeface="Tahoma"/>
              </a:rPr>
              <a:t>C63 ® SC6 update April 21/09</a:t>
            </a:r>
            <a:endParaRPr b="0" lang="en-US" sz="4000" spc="-1" strike="noStrike">
              <a:solidFill>
                <a:srgbClr val="333399"/>
              </a:solidFill>
              <a:latin typeface="Tahoma"/>
            </a:endParaRPr>
          </a:p>
        </p:txBody>
      </p:sp>
      <p:sp>
        <p:nvSpPr>
          <p:cNvPr id="106"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WG4( Study group WG 4)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ooks at the traceability and calibration requirements for "key" emc equipment such as LISNs, Antennas, Spectrum Analyzers, coaxial cables, preamps, filters, etc. (Bob Delisi, Dean Ghizonne, Dan Hoolihan, Werner Schaeffer, Kurt Fischer, Victor K, Zhong Cheng, Colin Brench)</a:t>
            </a:r>
            <a:br>
              <a:rPr sz="2800"/>
            </a:b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63 ® SC6 update April 21/09</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A2LA and ANSI ACLASS joined SC6</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   SC6 Webmaster needs to provide approved minutes to Shannon to be placed on the public space on websi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19:03:43Z</dcterms:created>
  <dc:creator>vk</dc:creator>
  <dc:description/>
  <dc:language>en-US</dc:language>
  <cp:lastModifiedBy>vk</cp:lastModifiedBy>
  <dcterms:modified xsi:type="dcterms:W3CDTF">2009-04-22T21:14:50Z</dcterms:modified>
  <cp:revision>21</cp:revision>
  <dc:subject/>
  <dc:title>              C63 SC6</dc:title>
</cp:coreProperties>
</file>