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90024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B35E5-72BB-4F27-8537-1CCAD93A2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99880" y="4277880"/>
            <a:ext cx="6145200" cy="428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agenda will cover these 4 major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0024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F05AA-028C-4B69-A278-28D8EAB62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0024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56A-D6A0-4E76-9906-D0073FCF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33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404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F67-A0A2-432F-BEE7-C0FDDB27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33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33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404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404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B4D-3036-40AB-8A86-1FADB12C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33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33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33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404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404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404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117-2A5D-4AC5-948A-9981F2B4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330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D5B-7FEE-4B7E-A1DE-24489912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330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5B2-4E51-410C-891B-34F81D6B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330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330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322-D7AB-4A74-9413-894398D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437-8C8B-48A1-BA74-8C72E740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48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DC5-7765-44C6-8F84-8A89D308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33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330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404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A9B-AD9F-497F-9C4C-8285990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330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33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404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B73-B744-4EE3-B545-AF145D3A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33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33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404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516-CF5E-48E3-8320-A0ED7B30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330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8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990720"/>
            <a:ext cx="9140040" cy="48960"/>
            <a:chOff x="0" y="990720"/>
            <a:chExt cx="9140040" cy="48960"/>
          </a:xfrm>
        </p:grpSpPr>
        <p:sp>
          <p:nvSpPr>
            <p:cNvPr id="5" name=""/>
            <p:cNvSpPr/>
            <p:nvPr/>
          </p:nvSpPr>
          <p:spPr>
            <a:xfrm>
              <a:off x="7560" y="990720"/>
              <a:ext cx="9132480" cy="4896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02960"/>
              <a:ext cx="913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86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A76B-9D92-4F0F-BC1F-84BFF414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70052" b="0"/>
          <a:stretch/>
        </p:blipFill>
        <p:spPr>
          <a:xfrm>
            <a:off x="152280" y="210960"/>
            <a:ext cx="1828800" cy="7034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190000" y="44280"/>
            <a:ext cx="877680" cy="87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SRPNT1/logon/Upcoming%20events.pp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5029200"/>
            <a:ext cx="902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us Shellman, J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 April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59680" y="2620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00400"/>
            <a:ext cx="89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C C6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Committee on EM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2 E3 Terminology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4724280"/>
            <a:ext cx="9143280" cy="49320"/>
            <a:chOff x="0" y="4724280"/>
            <a:chExt cx="9143280" cy="49320"/>
          </a:xfrm>
        </p:grpSpPr>
        <p:sp>
          <p:nvSpPr>
            <p:cNvPr id="57" name=""/>
            <p:cNvSpPr/>
            <p:nvPr/>
          </p:nvSpPr>
          <p:spPr>
            <a:xfrm>
              <a:off x="7560" y="4724280"/>
              <a:ext cx="9135720" cy="4932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4736880"/>
              <a:ext cx="914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rcRect l="29953" t="0" r="0" b="0"/>
          <a:stretch/>
        </p:blipFill>
        <p:spPr>
          <a:xfrm>
            <a:off x="152280" y="1066680"/>
            <a:ext cx="4265640" cy="60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70052" b="0"/>
          <a:stretch/>
        </p:blipFill>
        <p:spPr>
          <a:xfrm>
            <a:off x="15228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4F4-CC40-458B-9875-26BF74BF29A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2 Re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2 Meeting Convened 22 April 2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ership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Group 1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2 C6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®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sletter In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AD4-E0C3-4B17-88AA-1C95043864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2 Membership Ros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2 Membership Ro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us Shellm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e Southwor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ce-Chair, SC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e Snyd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retary, SC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 Heirm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C6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n Hoolih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ce-Chair C6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ke Windl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nis Camel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ce-Chair, S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ul Ander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 Ha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urt Fisch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hen Ber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seph Morrisse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ph Show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in Bren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b Hofman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hris Dilay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mber, SC2 Web Coordinator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*New Member/SC2 Web Coordina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1A4-00F0-4D84-A925-6CAA3AF668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2 Membership 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2 Membership 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 Dilay Nominated/Confirmed as New Me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on Passed to Elect Mr. Dilay as SC2 Web Coordin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994-7303-488B-AC81-6D9F7670CD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2 Working Group 1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of Draft ANSI C63.1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Submitted for BSR8 (Public Revi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Expected to be Completed by End of 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will be Submitted for BSR9 (ANSI Revi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ding Successful Public Re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Requires Approximately 30 Day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Activit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New PINS for Next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ding Publication of Current ASC C63.14 Dra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C6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icy for Referencing Definitions from Non-C6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465-C27D-4016-B18E-F1C6DB1D5D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82E7-1962-4426-8A59-05D6C2F7A4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2 Input t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6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wsle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2 Report for C6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mittee approved draft of ANSI C63.14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tionary of Electromagnetic Compat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ing E3,” is currently undergoing Publ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.   After successful Public Review, draft 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go ANSI Review.  Publication is anticipated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Summer 2009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D69-41D8-4F2E-A1CB-29D5D48CCB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3360" y="838080"/>
            <a:ext cx="7937280" cy="7488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60" y="0"/>
            <a:ext cx="9067680" cy="6781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3360" y="6029280"/>
            <a:ext cx="7937280" cy="74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0560" y="3330720"/>
            <a:ext cx="2880" cy="9360"/>
          </a:xfrm>
          <a:prstGeom prst="rect">
            <a:avLst/>
          </a:prstGeom>
          <a:solidFill>
            <a:srgbClr val="004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467160" y="5330880"/>
            <a:ext cx="2209680" cy="1523880"/>
          </a:xfrm>
          <a:custGeom>
            <a:avLst/>
            <a:gdLst>
              <a:gd name="textAreaLeft" fmla="*/ 98640 w 2209680"/>
              <a:gd name="textAreaRight" fmla="*/ 2111040 w 22096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1318" h="21600">
                <a:moveTo>
                  <a:pt x="0" y="0"/>
                </a:moveTo>
                <a:lnTo>
                  <a:pt x="31318" y="0"/>
                </a:lnTo>
                <a:lnTo>
                  <a:pt x="31318" y="21600"/>
                </a:lnTo>
                <a:lnTo>
                  <a:pt x="0" y="21600"/>
                </a:lnTo>
                <a:close/>
              </a:path>
              <a:path fill="lightenLess" w="31318" h="21600">
                <a:moveTo>
                  <a:pt x="0" y="0"/>
                </a:moveTo>
                <a:lnTo>
                  <a:pt x="31318" y="0"/>
                </a:lnTo>
                <a:lnTo>
                  <a:pt x="29918" y="1400"/>
                </a:lnTo>
                <a:lnTo>
                  <a:pt x="1400" y="1400"/>
                </a:lnTo>
                <a:close/>
              </a:path>
              <a:path fill="darken" w="31318" h="21600">
                <a:moveTo>
                  <a:pt x="31318" y="0"/>
                </a:moveTo>
                <a:lnTo>
                  <a:pt x="31318" y="21600"/>
                </a:lnTo>
                <a:lnTo>
                  <a:pt x="29918" y="20200"/>
                </a:lnTo>
                <a:lnTo>
                  <a:pt x="29918" y="1400"/>
                </a:lnTo>
                <a:close/>
              </a:path>
              <a:path fill="darkenLess" w="31318" h="21600">
                <a:moveTo>
                  <a:pt x="31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8" y="20200"/>
                </a:lnTo>
                <a:close/>
              </a:path>
              <a:path fill="lighten" w="31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8" h="21600">
                <a:moveTo>
                  <a:pt x="8653" y="3794"/>
                </a:moveTo>
                <a:lnTo>
                  <a:pt x="22666" y="10800"/>
                </a:lnTo>
                <a:lnTo>
                  <a:pt x="86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3360" y="1144440"/>
            <a:ext cx="7937280" cy="227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3360" y="5573880"/>
            <a:ext cx="7937280" cy="226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25880" y="1984320"/>
            <a:ext cx="2892240" cy="2892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93920" y="489600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disa.m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493-4059-484E-8FD8-0925FC48071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7:24:54Z</dcterms:created>
  <dc:creator>marcus.shellman</dc:creator>
  <dc:description/>
  <dc:language>en-US</dc:language>
  <cp:lastModifiedBy>marcus.shellman</cp:lastModifiedBy>
  <dcterms:modified xsi:type="dcterms:W3CDTF">2009-04-22T14:48:53Z</dcterms:modified>
  <cp:revision>23</cp:revision>
  <dc:subject/>
  <dc:title>Slide 1</dc:title>
</cp:coreProperties>
</file>