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D0C-43BC-4C84-B435-512E5942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890-8B9B-4ADD-BB07-FCBF7BE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729-A075-4B1E-B826-E039BE02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888-6C35-4D57-A50C-CB8AFC6F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651-2358-46C3-8DA5-6DE75C05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A92-8DC8-4E35-9D2D-7A8ED72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2925-5150-47ED-833F-CE74C25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BF75-A6EA-4B04-9011-7311F17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3E32-1A4B-416F-9D5E-6A3B4425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0DB1-1F03-4B7B-9468-0D7D128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A47-1C14-421E-BE34-3A9E854B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921-1C45-4EFE-97CF-EAEE6C54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F98-4291-47EE-A528-2D81463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817A-500C-47A1-8D3C-9E6908D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DED9-01A5-4ADF-B204-7C4DB823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D69-2FC9-499E-98EC-C61F4F26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6CA2-4777-4194-8638-4E1FB7FA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460-A9F8-4E6F-8FAE-1D8A8C8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275-7307-4992-9824-2A06D1E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1F9-23A1-4453-B482-FF48DAE7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C3C-AAD1-4E7E-BFAC-F2D94F9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FC5-3F10-4259-901C-6440B80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FAB-8298-48BA-A95A-7E6C52A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F06-BED1-401F-A10F-87A6CCF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F11-59C1-4404-8DD6-4B90DDF160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168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Rectangle 169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Rectangle 170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Rectangle 171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77360" y="3113640"/>
                <a:ext cx="247680" cy="2494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36E0-BD51-4F18-830C-4654BC4BB273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G 1-15.5 C63.23 Measurement Uncertainty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New Standard,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pril 2009 Update 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ob DeL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derwriters Laborator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63.23 Update – Edition 1.0</a:t>
            </a:r>
            <a:br>
              <a:rPr sz="4400"/>
            </a:b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April 17, 2009</a:t>
            </a:r>
            <a:endParaRPr b="0" lang="en-US" sz="2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icipated Completion of Edition 1.0 – July 200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utstanding I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roduction.  Target date of May 4, 20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A – Started but needs updating and comple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B – Contact to IEC still needs to be coordinated for use of copyright materi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truction on use of spreadsheets.  Target Date of May 1, 200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ing Requirements need to be finaliz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0:56:09Z</dcterms:created>
  <dc:creator>Bob DeLisi</dc:creator>
  <dc:description/>
  <dc:language>en-US</dc:language>
  <cp:lastModifiedBy>Mike Windler</cp:lastModifiedBy>
  <dcterms:modified xsi:type="dcterms:W3CDTF">2009-04-23T13:31:56Z</dcterms:modified>
  <cp:revision>13</cp:revision>
  <dc:subject/>
  <dc:title>C63.23 Update – Edition 1.0 April 17, 2009</dc:title>
</cp:coreProperties>
</file>