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F325-6AA1-4876-92AB-85ADB2F30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C956-4705-4205-852A-4F4A4F9C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F276-7013-4350-9036-2936B8BCF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BB64-42CB-4D9B-BE92-A0B63146D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02C8-DFBB-4B41-9E42-9DEEE83A9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348E5-8A82-4D48-8743-8DC3D7F5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7FC97-C367-47CB-8300-E52D7B23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8317-AC4F-4A71-B2A7-ECF1875A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9D40-619A-42A0-80D2-2FE7D5F4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A5F1-268A-48B5-B605-0BCEA71C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3860-91A5-4C27-92F0-EB525F00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ABB3-FDA2-4F80-8867-CFB5E1E3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21A2-C454-413E-9ACB-D3227540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E115-EE6D-4284-85D6-B1C10868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B045-4A68-4E12-BE05-B266BC98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7E18-7E38-4CAD-9020-0E8ECA848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5814-4FD3-48C1-AC82-1F7DF90E3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E739-D0EC-48A5-84BD-9AB62EF4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0D01-10B9-4F01-B2A5-7E9B077C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0FD0-6ED2-4C56-9FA3-10BBACF5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3D0A-9275-425E-8928-151C06BC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476C-85C2-4B5B-8352-1F994EE8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2335-B3C3-4F8B-AFF2-6666B088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EB37-6898-41FD-B1EC-7EA26A3E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2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3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4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Line 5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Line 6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Line 7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Line 8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Line 9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Line 10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Line 11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Line 12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Line 13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Line 14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Line 15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Line 16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Line 17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Line 18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Line 19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Line 20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Line 21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Line 22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Line 23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Line 24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Line 25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Group 26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7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Line 28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Line 29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Line 30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Line 31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Line 32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Line 33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Line 34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Line 35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Line 36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Line 37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Line 38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Line 39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Line 40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Line 41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Line 42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Line 43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Line 44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Line 45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Line 46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Line 47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Line 48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Line 49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Line 50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Line 51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Line 52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Line 53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Line 54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Line 55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Rectangle 56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6" name="Group 57"/>
            <p:cNvGrpSpPr/>
            <p:nvPr/>
          </p:nvGrpSpPr>
          <p:grpSpPr>
            <a:xfrm>
              <a:off x="3276720" y="6324480"/>
              <a:ext cx="3047760" cy="457200"/>
              <a:chOff x="3276720" y="6324480"/>
              <a:chExt cx="3047760" cy="457200"/>
            </a:xfrm>
          </p:grpSpPr>
          <p:sp>
            <p:nvSpPr>
              <p:cNvPr id="57" name="Rectangle 58"/>
              <p:cNvSpPr/>
              <p:nvPr/>
            </p:nvSpPr>
            <p:spPr>
              <a:xfrm>
                <a:off x="3352680" y="6400800"/>
                <a:ext cx="2895840" cy="3049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8" name="Line 59"/>
              <p:cNvSpPr/>
              <p:nvPr/>
            </p:nvSpPr>
            <p:spPr>
              <a:xfrm>
                <a:off x="3276720" y="6400800"/>
                <a:ext cx="30477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Line 60"/>
              <p:cNvSpPr/>
              <p:nvPr/>
            </p:nvSpPr>
            <p:spPr>
              <a:xfrm>
                <a:off x="3276720" y="6705720"/>
                <a:ext cx="30477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Line 61"/>
              <p:cNvSpPr/>
              <p:nvPr/>
            </p:nvSpPr>
            <p:spPr>
              <a:xfrm>
                <a:off x="335268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1" name="Line 62"/>
              <p:cNvSpPr/>
              <p:nvPr/>
            </p:nvSpPr>
            <p:spPr>
              <a:xfrm>
                <a:off x="624852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Group 63"/>
            <p:cNvGrpSpPr/>
            <p:nvPr/>
          </p:nvGrpSpPr>
          <p:grpSpPr>
            <a:xfrm>
              <a:off x="7162920" y="6324480"/>
              <a:ext cx="1447560" cy="457200"/>
              <a:chOff x="7162920" y="6324480"/>
              <a:chExt cx="1447560" cy="457200"/>
            </a:xfrm>
          </p:grpSpPr>
          <p:sp>
            <p:nvSpPr>
              <p:cNvPr id="63" name="Rectangle 64"/>
              <p:cNvSpPr/>
              <p:nvPr/>
            </p:nvSpPr>
            <p:spPr>
              <a:xfrm>
                <a:off x="7238880" y="6400800"/>
                <a:ext cx="1295640" cy="3049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4" name="Line 65"/>
              <p:cNvSpPr/>
              <p:nvPr/>
            </p:nvSpPr>
            <p:spPr>
              <a:xfrm>
                <a:off x="7162920" y="640080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5" name="Line 66"/>
              <p:cNvSpPr/>
              <p:nvPr/>
            </p:nvSpPr>
            <p:spPr>
              <a:xfrm>
                <a:off x="7162920" y="670572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6" name="Line 67"/>
              <p:cNvSpPr/>
              <p:nvPr/>
            </p:nvSpPr>
            <p:spPr>
              <a:xfrm>
                <a:off x="723888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7" name="Line 68"/>
              <p:cNvSpPr/>
              <p:nvPr/>
            </p:nvSpPr>
            <p:spPr>
              <a:xfrm>
                <a:off x="853452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Group 69"/>
            <p:cNvGrpSpPr/>
            <p:nvPr/>
          </p:nvGrpSpPr>
          <p:grpSpPr>
            <a:xfrm>
              <a:off x="990720" y="6324480"/>
              <a:ext cx="1447560" cy="457200"/>
              <a:chOff x="990720" y="6324480"/>
              <a:chExt cx="1447560" cy="457200"/>
            </a:xfrm>
          </p:grpSpPr>
          <p:sp>
            <p:nvSpPr>
              <p:cNvPr id="69" name="Rectangle 70"/>
              <p:cNvSpPr/>
              <p:nvPr/>
            </p:nvSpPr>
            <p:spPr>
              <a:xfrm>
                <a:off x="1066680" y="6400800"/>
                <a:ext cx="1295640" cy="30492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0" name="Line 71"/>
              <p:cNvSpPr/>
              <p:nvPr/>
            </p:nvSpPr>
            <p:spPr>
              <a:xfrm>
                <a:off x="990720" y="640080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1" name="Line 72"/>
              <p:cNvSpPr/>
              <p:nvPr/>
            </p:nvSpPr>
            <p:spPr>
              <a:xfrm>
                <a:off x="990720" y="670572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2" name="Line 73"/>
              <p:cNvSpPr/>
              <p:nvPr/>
            </p:nvSpPr>
            <p:spPr>
              <a:xfrm>
                <a:off x="106668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3" name="Line 74"/>
              <p:cNvSpPr/>
              <p:nvPr/>
            </p:nvSpPr>
            <p:spPr>
              <a:xfrm>
                <a:off x="236232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74" name="Line 80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75" name="Group 81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76" name="Line 82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7" name="Line 83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8" name="Arc 84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d88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B940-86F4-4C99-BF6E-6E04CCF6A15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10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21" name="Group 90"/>
            <p:cNvGrpSpPr/>
            <p:nvPr/>
          </p:nvGrpSpPr>
          <p:grpSpPr>
            <a:xfrm>
              <a:off x="1104840" y="3141720"/>
              <a:ext cx="4971960" cy="514440"/>
              <a:chOff x="1104840" y="3141720"/>
              <a:chExt cx="4971960" cy="514440"/>
            </a:xfrm>
          </p:grpSpPr>
          <p:sp>
            <p:nvSpPr>
              <p:cNvPr id="122" name="Rectangle 168"/>
              <p:cNvSpPr/>
              <p:nvPr/>
            </p:nvSpPr>
            <p:spPr>
              <a:xfrm>
                <a:off x="1104840" y="3141720"/>
                <a:ext cx="1752840" cy="45720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3" name="Rectangle 169"/>
              <p:cNvSpPr/>
              <p:nvPr/>
            </p:nvSpPr>
            <p:spPr>
              <a:xfrm>
                <a:off x="1104840" y="3503880"/>
                <a:ext cx="228600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4" name="Rectangle 170"/>
              <p:cNvSpPr/>
              <p:nvPr/>
            </p:nvSpPr>
            <p:spPr>
              <a:xfrm>
                <a:off x="2724120" y="3418200"/>
                <a:ext cx="3352680" cy="17136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5" name="Rectangle 171"/>
              <p:cNvSpPr/>
              <p:nvPr/>
            </p:nvSpPr>
            <p:spPr>
              <a:xfrm>
                <a:off x="2719440" y="3237120"/>
                <a:ext cx="2971800" cy="22860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126" name="Rectangle 56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127" name="Group 2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28" name="Group 3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129" name="Line 4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5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Line 6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Line 7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8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9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0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1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2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3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5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6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7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8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9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20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21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22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23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24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25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Group 26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152" name="Line 27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28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29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30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31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Line 32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Line 33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Line 34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Line 35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Line 36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Line 37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Line 38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Line 39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Line 40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Line 41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Line 42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Line 43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Line 44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Line 45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Line 46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Line 47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Line 48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Line 49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Line 50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Line 51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Line 52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Line 53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Line 54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Line 55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Group 63"/>
            <p:cNvGrpSpPr/>
            <p:nvPr/>
          </p:nvGrpSpPr>
          <p:grpSpPr>
            <a:xfrm>
              <a:off x="7162920" y="6324480"/>
              <a:ext cx="1447560" cy="457200"/>
              <a:chOff x="7162920" y="6324480"/>
              <a:chExt cx="1447560" cy="457200"/>
            </a:xfrm>
          </p:grpSpPr>
          <p:sp>
            <p:nvSpPr>
              <p:cNvPr id="182" name="Rectangle 64"/>
              <p:cNvSpPr/>
              <p:nvPr/>
            </p:nvSpPr>
            <p:spPr>
              <a:xfrm>
                <a:off x="7238880" y="6400800"/>
                <a:ext cx="1295640" cy="3049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83" name="Line 65"/>
              <p:cNvSpPr/>
              <p:nvPr/>
            </p:nvSpPr>
            <p:spPr>
              <a:xfrm>
                <a:off x="7162920" y="640080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84" name="Line 66"/>
              <p:cNvSpPr/>
              <p:nvPr/>
            </p:nvSpPr>
            <p:spPr>
              <a:xfrm>
                <a:off x="7162920" y="670572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85" name="Line 67"/>
              <p:cNvSpPr/>
              <p:nvPr/>
            </p:nvSpPr>
            <p:spPr>
              <a:xfrm>
                <a:off x="723888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86" name="Line 68"/>
              <p:cNvSpPr/>
              <p:nvPr/>
            </p:nvSpPr>
            <p:spPr>
              <a:xfrm>
                <a:off x="853452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187" name="Line 80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188" name="Group 106"/>
            <p:cNvGrpSpPr/>
            <p:nvPr/>
          </p:nvGrpSpPr>
          <p:grpSpPr>
            <a:xfrm>
              <a:off x="414360" y="3114720"/>
              <a:ext cx="5662440" cy="2371680"/>
              <a:chOff x="414360" y="3114720"/>
              <a:chExt cx="5662440" cy="2371680"/>
            </a:xfrm>
          </p:grpSpPr>
          <p:sp>
            <p:nvSpPr>
              <p:cNvPr id="189" name="Line 82"/>
              <p:cNvSpPr/>
              <p:nvPr/>
            </p:nvSpPr>
            <p:spPr>
              <a:xfrm flipH="1">
                <a:off x="414360" y="3232440"/>
                <a:ext cx="243360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90" name="Line 83"/>
              <p:cNvSpPr/>
              <p:nvPr/>
            </p:nvSpPr>
            <p:spPr>
              <a:xfrm>
                <a:off x="608040" y="3117960"/>
                <a:ext cx="0" cy="2368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91" name="Arc 84"/>
              <p:cNvSpPr/>
              <p:nvPr/>
            </p:nvSpPr>
            <p:spPr>
              <a:xfrm flipH="1" rot="16200000">
                <a:off x="477360" y="3113640"/>
                <a:ext cx="247680" cy="24948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92" name="Arc 91"/>
              <p:cNvSpPr/>
              <p:nvPr/>
            </p:nvSpPr>
            <p:spPr>
              <a:xfrm>
                <a:off x="1098720" y="3143520"/>
                <a:ext cx="423720" cy="33156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93" name="Arc 92"/>
              <p:cNvSpPr/>
              <p:nvPr/>
            </p:nvSpPr>
            <p:spPr>
              <a:xfrm flipV="1">
                <a:off x="1324080" y="3140280"/>
                <a:ext cx="457200" cy="51120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94" name="Arc 93"/>
              <p:cNvSpPr/>
              <p:nvPr/>
            </p:nvSpPr>
            <p:spPr>
              <a:xfrm flipV="1">
                <a:off x="1784520" y="3131640"/>
                <a:ext cx="457200" cy="52236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95" name="Line 94"/>
              <p:cNvSpPr/>
              <p:nvPr/>
            </p:nvSpPr>
            <p:spPr>
              <a:xfrm flipV="1">
                <a:off x="1143000" y="3137040"/>
                <a:ext cx="662040" cy="5191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96" name="Line 95"/>
              <p:cNvSpPr/>
              <p:nvPr/>
            </p:nvSpPr>
            <p:spPr>
              <a:xfrm>
                <a:off x="1224000" y="3137040"/>
                <a:ext cx="476280" cy="514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97" name="Arc 96"/>
              <p:cNvSpPr/>
              <p:nvPr/>
            </p:nvSpPr>
            <p:spPr>
              <a:xfrm flipV="1">
                <a:off x="4299120" y="3236400"/>
                <a:ext cx="1153800" cy="9824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98" name="Arc 97"/>
              <p:cNvSpPr/>
              <p:nvPr/>
            </p:nvSpPr>
            <p:spPr>
              <a:xfrm>
                <a:off x="4883040" y="3186360"/>
                <a:ext cx="674640" cy="34128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99" name="Arc 98"/>
              <p:cNvSpPr/>
              <p:nvPr/>
            </p:nvSpPr>
            <p:spPr>
              <a:xfrm flipH="1" flipV="1">
                <a:off x="5462640" y="3368160"/>
                <a:ext cx="457200" cy="22860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00" name="Arc 99"/>
              <p:cNvSpPr/>
              <p:nvPr/>
            </p:nvSpPr>
            <p:spPr>
              <a:xfrm flipH="1" flipV="1">
                <a:off x="4357800" y="3380760"/>
                <a:ext cx="318960" cy="20628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01" name="Line 100"/>
              <p:cNvSpPr/>
              <p:nvPr/>
            </p:nvSpPr>
            <p:spPr>
              <a:xfrm>
                <a:off x="4419720" y="3246480"/>
                <a:ext cx="347400" cy="3430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02" name="Line 101"/>
              <p:cNvSpPr/>
              <p:nvPr/>
            </p:nvSpPr>
            <p:spPr>
              <a:xfrm>
                <a:off x="5210280" y="3232440"/>
                <a:ext cx="476280" cy="352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03" name="Line 102"/>
              <p:cNvSpPr/>
              <p:nvPr/>
            </p:nvSpPr>
            <p:spPr>
              <a:xfrm flipH="1">
                <a:off x="4723920" y="3232440"/>
                <a:ext cx="476280" cy="352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04" name="Line 103"/>
              <p:cNvSpPr/>
              <p:nvPr/>
            </p:nvSpPr>
            <p:spPr>
              <a:xfrm>
                <a:off x="5205240" y="3232440"/>
                <a:ext cx="0" cy="3571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05" name="Line 104"/>
              <p:cNvSpPr/>
              <p:nvPr/>
            </p:nvSpPr>
            <p:spPr>
              <a:xfrm>
                <a:off x="5681520" y="3232440"/>
                <a:ext cx="0" cy="4712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06" name="Line 105"/>
              <p:cNvSpPr/>
              <p:nvPr/>
            </p:nvSpPr>
            <p:spPr>
              <a:xfrm>
                <a:off x="457200" y="3589560"/>
                <a:ext cx="561960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d88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4"/>
          </p:nvPr>
        </p:nvSpPr>
        <p:spPr>
          <a:xfrm>
            <a:off x="7238880" y="6248520"/>
            <a:ext cx="133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3D7C-2E23-4F4E-9C4F-11D830300016}" type="slidenum">
              <a:rPr b="0" lang="en-US" sz="14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Test Site Standard WG </a:t>
            </a:r>
            <a:br>
              <a:rPr sz="4400"/>
            </a:b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C63.25 Edition 1,</a:t>
            </a:r>
            <a:br>
              <a:rPr sz="4400"/>
            </a:b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April 2009 Update 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ike Windl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derwriters Laboratori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C63.25 Working Group Update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urrent Working Group Membershi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Brench, Coli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Camell, Denn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Heirman, Donald N.  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Hofmann, H R (Bob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Hoolihan, Daniel 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Schaefer, Werne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Windler, Mik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Zhong Ch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C63.25 Working Group Update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INS approved in October 2008 by the consensus bod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quirements for radiated emissions test sites including open area tests, semi-anechoic rooms below 1 GHz and partially absorber lined open area tests and semi-anechoic rooms above 1 GHz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Outline of Draft C63.25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py below 1 GHz requirements (performance and construction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clude by reference SVSW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clude new Time Domain metho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velop comparison annex between TDR and VSW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nnex’s - MUC for both TDR and VSW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Next Steps due May 1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ew TDR method (clause 6) and annex 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SA from C63.4 - edit clause 5 and annex 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dd a stake in the ground for mode stirred (clause 9)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ew correlation of SVSWR and TDR compliance (annex E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velop MUC for SVSWR and TD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17:07:02Z</dcterms:created>
  <dc:creator>Bob DeLisi</dc:creator>
  <dc:description/>
  <dc:language>en-US</dc:language>
  <cp:lastModifiedBy>Mike Windler</cp:lastModifiedBy>
  <dcterms:modified xsi:type="dcterms:W3CDTF">2009-04-22T17:30:31Z</dcterms:modified>
  <cp:revision>21</cp:revision>
  <dc:subject/>
  <dc:title>C63.23 Working Group Update</dc:title>
</cp:coreProperties>
</file>