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C48-CDFF-4951-BE47-D57F3EBB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B52-C1E8-41D9-837A-94ECDDE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D56-C44F-4171-B1FD-35ADFBD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EDE-3FE2-4E59-9265-BE78ADFD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057-B928-4103-B507-A16ED0B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042-FB0C-47FE-870B-D9DD0D04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8D6-0A55-48EF-9FF7-7D16500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741-739E-45E5-8453-C42249D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30B-7F47-4A38-BABF-C8DFC814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BD4-EBE2-47F7-A0AA-0AB32CD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599-C39F-4B94-940F-1F0FB80D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14-0F73-4CEF-BFA7-25990C9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38B-8544-4A60-BB25-28F8E902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SC C63® SC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252"/>
          <p:cNvGraphicFramePr/>
          <p:nvPr/>
        </p:nvGraphicFramePr>
        <p:xfrm>
          <a:off x="509760" y="1123920"/>
          <a:ext cx="3886200" cy="53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123920"/>
                    <a:ext cx="388620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53"/>
          <p:cNvGraphicFramePr/>
          <p:nvPr/>
        </p:nvGraphicFramePr>
        <p:xfrm>
          <a:off x="4624560" y="1200240"/>
          <a:ext cx="3886200" cy="464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Object 2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4560" y="1200240"/>
                    <a:ext cx="388620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Box 14"/>
          <p:cNvSpPr/>
          <p:nvPr/>
        </p:nvSpPr>
        <p:spPr>
          <a:xfrm>
            <a:off x="304920" y="228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C8 Membership (MOTION: To Accept Memb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4648320" y="5943600"/>
          <a:ext cx="4303440" cy="380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5943600"/>
                    <a:ext cx="4303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8 Membership Not on Curren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need to be reapproved at the October 2009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1905120" y="1158840"/>
          <a:ext cx="5486400" cy="54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58840"/>
                    <a:ext cx="548640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C C63® SC8 Up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04920" y="167652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 C63.18 ballot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No Vote (FDA) due to a technical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 call with FDA addressed technical concerns to thei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n Recirculation ballot with editorial chang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C C63® SC8 Up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04920" y="900000"/>
            <a:ext cx="85341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3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 agreement on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eralized appro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aluating and testing new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efforts involve validating new test method for phones (confirming an equivalent rating with respect to old method test for GSM and minus a ~2dB relax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 instrumentation developed by S. Jule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, Motorola labs performing comparativ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upport for including a G-TEM testing method for HA immunity (replacing current dipole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 presented by T. Victorian showing G-TEM values are ~7dB more conservative than dipole values; limits would be readjusted accordi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to hold a 30 day review (poll) of current draft EXCEPT clauses 4 (evaluation of RF signal), 5 (WD test), and 6 (HA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to hold a 60 day review (poll) for clauses 4, 5, and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 for ballot – 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 / consensus vot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not achieve consensus at Octobe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man'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ru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tion to Carry &gt; 50% [(+) &gt; (-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entions do not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will not vote unless needed to break a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polling procedures can be submitted for SC8 vote and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raft Polling Ru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12760" y="1143000"/>
            <a:ext cx="8702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port submitted to FCC OET/WTB in May 2008 - ongoing work and progress of ANSI C63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at time, ANSI ASC C63® indicated our intent to submit a follow-up report “in the next few mont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SC8 is reviewing complex data and actively assembling addi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ion is to submit a follow-up report to the FCC OET/WTB that we are confident is both accurate and informative as soon as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CC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55:35Z</dcterms:created>
  <dc:creator>ejm037</dc:creator>
  <dc:description/>
  <dc:language>en-US</dc:language>
  <cp:lastModifiedBy> </cp:lastModifiedBy>
  <dcterms:modified xsi:type="dcterms:W3CDTF">2009-04-23T13:01:28Z</dcterms:modified>
  <cp:revision>69</cp:revision>
  <dc:subject/>
  <dc:title>C63 SC8: Motion 1</dc:title>
</cp:coreProperties>
</file>